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46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3.jpeg" ContentType="image/jpeg"/>
  <Override PartName="/ppt/media/image28.wmf" ContentType="image/x-wmf"/>
  <Override PartName="/ppt/media/image25.wmf" ContentType="image/x-wmf"/>
  <Override PartName="/ppt/media/image2.jpeg" ContentType="image/jpeg"/>
  <Override PartName="/ppt/media/image18.wmf" ContentType="image/x-wmf"/>
  <Override PartName="/ppt/media/image4.jpeg" ContentType="image/jpeg"/>
  <Override PartName="/ppt/media/image38.wmf" ContentType="image/x-wmf"/>
  <Override PartName="/ppt/media/image33.wmf" ContentType="image/x-wmf"/>
  <Override PartName="/ppt/media/image34.wmf" ContentType="image/x-wmf"/>
  <Override PartName="/ppt/media/Graph.wav" ContentType="audio/x-wav"/>
  <Override PartName="/ppt/media/image5.jpeg" ContentType="image/jpeg"/>
  <Override PartName="/ppt/media/image20.wmf" ContentType="image/x-wmf"/>
  <Override PartName="/ppt/media/image35.wmf" ContentType="image/x-wmf"/>
  <Override PartName="/ppt/media/image37.wmf" ContentType="image/x-wmf"/>
  <Override PartName="/ppt/media/image39.wmf" ContentType="image/x-wmf"/>
  <Override PartName="/ppt/media/image40.wmf" ContentType="image/x-wmf"/>
  <Override PartName="/ppt/media/image7.jpeg" ContentType="image/jpeg"/>
  <Override PartName="/ppt/media/DEDEDU.WAV" ContentType="audio/x-wav"/>
  <Override PartName="/ppt/media/image42.wmf" ContentType="image/x-wmf"/>
  <Override PartName="/ppt/media/image43.jpeg" ContentType="image/jpeg"/>
  <Override PartName="/ppt/media/image44.wmf" ContentType="image/x-wmf"/>
  <Override PartName="/ppt/media/image32.wmf" ContentType="image/x-wmf"/>
  <Override PartName="/ppt/media/image10.png" ContentType="image/png"/>
  <Override PartName="/ppt/media/music2.wav" ContentType="audio/x-wav"/>
  <Override PartName="/ppt/media/image45.gif" ContentType="image/gif"/>
  <Override PartName="/ppt/media/image41.wmf" ContentType="image/x-wmf"/>
  <Override PartName="/ppt/media/image8.jpeg" ContentType="image/jpeg"/>
  <Override PartName="/ppt/media/image13.wmf" ContentType="image/x-wmf"/>
  <Override PartName="/ppt/media/New%20Question.wav" ContentType="audio/x-wav"/>
  <Override PartName="/ppt/media/image36.wmf" ContentType="image/x-wmf"/>
  <Override PartName="/ppt/media/image23.wmf" ContentType="image/x-wmf"/>
  <Override PartName="/ppt/media/image9.jpeg" ContentType="image/jpeg"/>
  <Override PartName="/ppt/media/image11.png" ContentType="image/png"/>
  <Override PartName="/ppt/media/image12.wmf" ContentType="image/x-wmf"/>
  <Override PartName="/ppt/media/image30.wmf" ContentType="image/x-wmf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50920" y="4869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643280" y="48690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5943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43280" y="59436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597720" y="0"/>
            <a:ext cx="2546280" cy="4742640"/>
            <a:chOff x="6597720" y="0"/>
            <a:chExt cx="2546280" cy="4742640"/>
          </a:xfrm>
        </p:grpSpPr>
        <p:sp>
          <p:nvSpPr>
            <p:cNvPr id="6" name=""/>
            <p:cNvSpPr/>
            <p:nvPr/>
          </p:nvSpPr>
          <p:spPr>
            <a:xfrm>
              <a:off x="6597720" y="15840"/>
              <a:ext cx="2514600" cy="472428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73680" y="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673680" y="320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673680" y="625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673680" y="9302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3680" y="1235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73680" y="153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673680" y="18446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673680" y="2149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673680" y="245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673680" y="27590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673680" y="3063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673680" y="3368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73680" y="3673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673680" y="39783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73680" y="4282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512120" y="158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£1 Mill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512120" y="336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50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512120" y="641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25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512120" y="946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125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512120" y="1251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64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512120" y="1555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£32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512120" y="1860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512120" y="21654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8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512120" y="24703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4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512120" y="277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2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512120" y="30798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£1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512120" y="338472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529400" y="3691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545240" y="3994200"/>
              <a:ext cx="13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543800" y="4281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07200" y="44355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207200" y="41306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207200" y="3825720"/>
              <a:ext cx="15228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207200" y="3521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207200" y="3216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207200" y="2911320"/>
              <a:ext cx="15228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07200" y="26067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207200" y="2301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207200" y="1996920"/>
              <a:ext cx="15228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07200" y="1692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207200" y="13874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7200" y="1082520"/>
              <a:ext cx="15228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07200" y="777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207200" y="4730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207200" y="16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3487680" cy="652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7.jpeg"/><Relationship Id="rId14" Type="http://schemas.openxmlformats.org/officeDocument/2006/relationships/image" Target="../media/image8.jpeg"/><Relationship Id="rId15" Type="http://schemas.openxmlformats.org/officeDocument/2006/relationships/image" Target="../media/image3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6.jpeg"/><Relationship Id="rId19" Type="http://schemas.openxmlformats.org/officeDocument/2006/relationships/image" Target="../media/image7.jpeg"/><Relationship Id="rId20" Type="http://schemas.openxmlformats.org/officeDocument/2006/relationships/image" Target="../media/image8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6.jpeg"/><Relationship Id="rId25" Type="http://schemas.openxmlformats.org/officeDocument/2006/relationships/image" Target="../media/image7.jpeg"/><Relationship Id="rId26" Type="http://schemas.openxmlformats.org/officeDocument/2006/relationships/image" Target="../media/image8.jpeg"/><Relationship Id="rId27" Type="http://schemas.openxmlformats.org/officeDocument/2006/relationships/image" Target="../media/image3.jpeg"/><Relationship Id="rId28" Type="http://schemas.openxmlformats.org/officeDocument/2006/relationships/image" Target="../media/image4.jpeg"/><Relationship Id="rId29" Type="http://schemas.openxmlformats.org/officeDocument/2006/relationships/image" Target="../media/image5.jpeg"/><Relationship Id="rId30" Type="http://schemas.openxmlformats.org/officeDocument/2006/relationships/image" Target="../media/image6.jpeg"/><Relationship Id="rId31" Type="http://schemas.openxmlformats.org/officeDocument/2006/relationships/image" Target="../media/image7.jpeg"/><Relationship Id="rId32" Type="http://schemas.openxmlformats.org/officeDocument/2006/relationships/image" Target="../media/image8.jpeg"/><Relationship Id="rId33" Type="http://schemas.openxmlformats.org/officeDocument/2006/relationships/image" Target="../media/image3.jpeg"/><Relationship Id="rId34" Type="http://schemas.openxmlformats.org/officeDocument/2006/relationships/image" Target="../media/image4.jpeg"/><Relationship Id="rId35" Type="http://schemas.openxmlformats.org/officeDocument/2006/relationships/image" Target="../media/image5.jpeg"/><Relationship Id="rId36" Type="http://schemas.openxmlformats.org/officeDocument/2006/relationships/image" Target="../media/image6.jpeg"/><Relationship Id="rId37" Type="http://schemas.openxmlformats.org/officeDocument/2006/relationships/image" Target="../media/image7.jpeg"/><Relationship Id="rId38" Type="http://schemas.openxmlformats.org/officeDocument/2006/relationships/image" Target="../media/image8.jpeg"/><Relationship Id="rId39" Type="http://schemas.openxmlformats.org/officeDocument/2006/relationships/image" Target="../media/image3.jpeg"/><Relationship Id="rId40" Type="http://schemas.openxmlformats.org/officeDocument/2006/relationships/image" Target="../media/image4.jpeg"/><Relationship Id="rId41" Type="http://schemas.openxmlformats.org/officeDocument/2006/relationships/image" Target="../media/image6.jpeg"/><Relationship Id="rId42" Type="http://schemas.openxmlformats.org/officeDocument/2006/relationships/image" Target="../media/image7.jpeg"/><Relationship Id="rId43" Type="http://schemas.openxmlformats.org/officeDocument/2006/relationships/image" Target="../media/image8.jpeg"/><Relationship Id="rId44" Type="http://schemas.openxmlformats.org/officeDocument/2006/relationships/image" Target="../media/image4.jpeg"/><Relationship Id="rId45" Type="http://schemas.openxmlformats.org/officeDocument/2006/relationships/image" Target="../media/image6.jpeg"/><Relationship Id="rId46" Type="http://schemas.openxmlformats.org/officeDocument/2006/relationships/image" Target="../media/image8.jpeg"/><Relationship Id="rId47" Type="http://schemas.openxmlformats.org/officeDocument/2006/relationships/image" Target="../media/image3.jpeg"/><Relationship Id="rId48" Type="http://schemas.openxmlformats.org/officeDocument/2006/relationships/image" Target="../media/image4.jpeg"/><Relationship Id="rId49" Type="http://schemas.openxmlformats.org/officeDocument/2006/relationships/image" Target="../media/image5.jpeg"/><Relationship Id="rId50" Type="http://schemas.openxmlformats.org/officeDocument/2006/relationships/image" Target="../media/image6.jpeg"/><Relationship Id="rId51" Type="http://schemas.openxmlformats.org/officeDocument/2006/relationships/image" Target="../media/image7.jpeg"/><Relationship Id="rId52" Type="http://schemas.openxmlformats.org/officeDocument/2006/relationships/image" Target="../media/image8.jpeg"/><Relationship Id="rId53" Type="http://schemas.openxmlformats.org/officeDocument/2006/relationships/image" Target="../media/image8.jpeg"/><Relationship Id="rId54" Type="http://schemas.openxmlformats.org/officeDocument/2006/relationships/audio" Target="../media/music2.wav"/><Relationship Id="rId5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20.wmf"/><Relationship Id="rId10" Type="http://schemas.openxmlformats.org/officeDocument/2006/relationships/audio" Target="../media/New%20Question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hyperlink" Target="file:///tmp/home/.config/libreoffice/4/user/gallery/5050.WAV" TargetMode="External"/><Relationship Id="rId6" Type="http://schemas.openxmlformats.org/officeDocument/2006/relationships/slide" Target="slide17.xml"/><Relationship Id="rId7" Type="http://schemas.openxmlformats.org/officeDocument/2006/relationships/slide" Target="slide22.xml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audio" Target="../media/New%20Question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21.xml"/><Relationship Id="rId6" Type="http://schemas.openxmlformats.org/officeDocument/2006/relationships/slide" Target="slide26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22.wmf"/><Relationship Id="rId10" Type="http://schemas.openxmlformats.org/officeDocument/2006/relationships/image" Target="../media/image17.wmf"/><Relationship Id="rId11" Type="http://schemas.openxmlformats.org/officeDocument/2006/relationships/audio" Target="../media/New%20Question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20.xml"/><Relationship Id="rId6" Type="http://schemas.openxmlformats.org/officeDocument/2006/relationships/slide" Target="slide26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2.wmf"/><Relationship Id="rId10" Type="http://schemas.openxmlformats.org/officeDocument/2006/relationships/image" Target="../media/image16.wmf"/><Relationship Id="rId11" Type="http://schemas.openxmlformats.org/officeDocument/2006/relationships/audio" Target="../media/New%20Question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21.xml"/><Relationship Id="rId6" Type="http://schemas.openxmlformats.org/officeDocument/2006/relationships/slide" Target="slide26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3.wmf"/><Relationship Id="rId10" Type="http://schemas.openxmlformats.org/officeDocument/2006/relationships/image" Target="../media/image19.wmf"/><Relationship Id="rId11" Type="http://schemas.openxmlformats.org/officeDocument/2006/relationships/audio" Target="../media/New%20Question.wav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hyperlink" Target="file:///tmp/home/.config/libreoffice/4/user/gallery/5050.WAV" TargetMode="External"/><Relationship Id="rId3" Type="http://schemas.openxmlformats.org/officeDocument/2006/relationships/hyperlink" Target="file:///tmp/home/.config/libreoffice/4/user/gallery/light.wav" TargetMode="External"/><Relationship Id="rId4" Type="http://schemas.openxmlformats.org/officeDocument/2006/relationships/hyperlink" Target="file:///tmp/home/.config/libreoffice/4/user/gallery/ff1.wav" TargetMode="External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audio" Target="../media/New%20Question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file:///tmp/home/.config/libreoffice/4/user/gallery/5050.WAV" TargetMode="External"/><Relationship Id="rId3" Type="http://schemas.openxmlformats.org/officeDocument/2006/relationships/hyperlink" Target="file:///tmp/home/.config/libreoffice/4/user/gallery/light.wav" TargetMode="External"/><Relationship Id="rId4" Type="http://schemas.openxmlformats.org/officeDocument/2006/relationships/hyperlink" Target="file:///tmp/home/.config/libreoffice/4/user/gallery/ff1.wav" TargetMode="External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audio" Target="../media/New%20Question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DEDEDU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DEDEDU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DEDEDU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19.xml"/><Relationship Id="rId6" Type="http://schemas.openxmlformats.org/officeDocument/2006/relationships/slide" Target="slide24.xml"/><Relationship Id="rId7" Type="http://schemas.openxmlformats.org/officeDocument/2006/relationships/image" Target="../media/image10.png"/><Relationship Id="rId8" Type="http://schemas.openxmlformats.org/officeDocument/2006/relationships/audio" Target="file:///tmp/home/.config/libreoffice/4/user/gallery/Graph.wav" TargetMode="External"/><Relationship Id="rId9" Type="http://schemas.microsoft.com/office/2007/relationships/media" Target="file:///tmp/home/.config/libreoffice/4/user/gallery/Graph.wav" TargetMode="External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2.wmf"/><Relationship Id="rId13" Type="http://schemas.openxmlformats.org/officeDocument/2006/relationships/audio" Target="../media/New%20Question.wav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DEDEDU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DEDEDU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Graph.wav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Graph.wav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Graph.wav"/><Relationship Id="rId2" Type="http://schemas.openxmlformats.org/officeDocument/2006/relationships/audio" Target="../media/Graph.wav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Graph.wav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Graph.wav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image" Target="../media/image32.wmf"/><Relationship Id="rId7" Type="http://schemas.openxmlformats.org/officeDocument/2006/relationships/image" Target="../media/image32.wmf"/><Relationship Id="rId8" Type="http://schemas.openxmlformats.org/officeDocument/2006/relationships/image" Target="../media/image32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4.wmf"/><Relationship Id="rId13" Type="http://schemas.openxmlformats.org/officeDocument/2006/relationships/image" Target="../media/image30.wmf"/><Relationship Id="rId14" Type="http://schemas.openxmlformats.org/officeDocument/2006/relationships/image" Target="../media/image31.png"/><Relationship Id="rId15" Type="http://schemas.openxmlformats.org/officeDocument/2006/relationships/image" Target="../media/image33.wmf"/><Relationship Id="rId1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audio" Target="file:///tmp/home/.config/libreoffice/4/user/gallery/ELPHRG01.wav" TargetMode="External"/><Relationship Id="rId8" Type="http://schemas.microsoft.com/office/2007/relationships/media" Target="file:///tmp/home/.config/libreoffice/4/user/gallery/ELPHRG01.wav" TargetMode="External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3.wmf"/><Relationship Id="rId12" Type="http://schemas.openxmlformats.org/officeDocument/2006/relationships/audio" Target="../media/New%20Question.wav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wmf"/><Relationship Id="rId3" Type="http://schemas.openxmlformats.org/officeDocument/2006/relationships/image" Target="../media/image45.gif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20.xml"/><Relationship Id="rId6" Type="http://schemas.openxmlformats.org/officeDocument/2006/relationships/slide" Target="slide25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4.wmf"/><Relationship Id="rId10" Type="http://schemas.openxmlformats.org/officeDocument/2006/relationships/audio" Target="../media/New%20Question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20.xml"/><Relationship Id="rId6" Type="http://schemas.openxmlformats.org/officeDocument/2006/relationships/slide" Target="slide25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5.wmf"/><Relationship Id="rId10" Type="http://schemas.openxmlformats.org/officeDocument/2006/relationships/audio" Target="../media/New%20Question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18.xml"/><Relationship Id="rId6" Type="http://schemas.openxmlformats.org/officeDocument/2006/relationships/slide" Target="slide23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6.wmf"/><Relationship Id="rId10" Type="http://schemas.openxmlformats.org/officeDocument/2006/relationships/audio" Target="../media/New%20Question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17.xml"/><Relationship Id="rId6" Type="http://schemas.openxmlformats.org/officeDocument/2006/relationships/slide" Target="slide24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7.wmf"/><Relationship Id="rId10" Type="http://schemas.openxmlformats.org/officeDocument/2006/relationships/audio" Target="../media/New%20Question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17.xml"/><Relationship Id="rId6" Type="http://schemas.openxmlformats.org/officeDocument/2006/relationships/slide" Target="slide25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8.wmf"/><Relationship Id="rId10" Type="http://schemas.openxmlformats.org/officeDocument/2006/relationships/audio" Target="../media/New%20Question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18.xml"/><Relationship Id="rId6" Type="http://schemas.openxmlformats.org/officeDocument/2006/relationships/slide" Target="slide25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9.wmf"/><Relationship Id="rId10" Type="http://schemas.openxmlformats.org/officeDocument/2006/relationships/audio" Target="../media/New%20Question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5616720" cy="5616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708280"/>
            <a:ext cx="8280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ff00"/>
                </a:solidFill>
                <a:latin typeface="Arial"/>
                <a:ea typeface="MS UI Gothic"/>
              </a:rPr>
              <a:t>億万長者になるのは、だれ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9280" y="-1539720"/>
            <a:ext cx="1716120" cy="988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-828720" y="-1324080"/>
            <a:ext cx="1655640" cy="925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新五千円日本銀行券（裏）"/>
          <p:cNvPicPr/>
          <p:nvPr/>
        </p:nvPicPr>
        <p:blipFill>
          <a:blip r:embed="rId4"/>
          <a:stretch/>
        </p:blipFill>
        <p:spPr>
          <a:xfrm rot="1673400">
            <a:off x="2663640" y="-1323720"/>
            <a:ext cx="1685880" cy="912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新五千円日本銀行券（表）"/>
          <p:cNvPicPr/>
          <p:nvPr/>
        </p:nvPicPr>
        <p:blipFill>
          <a:blip r:embed="rId5"/>
          <a:stretch/>
        </p:blipFill>
        <p:spPr>
          <a:xfrm rot="19486200">
            <a:off x="1800360" y="-1971720"/>
            <a:ext cx="1687320" cy="912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新一万円日本銀行券（裏）"/>
          <p:cNvPicPr/>
          <p:nvPr/>
        </p:nvPicPr>
        <p:blipFill>
          <a:blip r:embed="rId6"/>
          <a:stretch/>
        </p:blipFill>
        <p:spPr>
          <a:xfrm rot="1654200">
            <a:off x="718920" y="-1468440"/>
            <a:ext cx="1728720" cy="90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新一万円日本銀行券（表）"/>
          <p:cNvPicPr/>
          <p:nvPr/>
        </p:nvPicPr>
        <p:blipFill>
          <a:blip r:embed="rId7"/>
          <a:stretch/>
        </p:blipFill>
        <p:spPr>
          <a:xfrm rot="19743600">
            <a:off x="0" y="-1899720"/>
            <a:ext cx="1801800" cy="942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5940360" y="4437000"/>
            <a:ext cx="3203640" cy="2409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 rot="8087400">
            <a:off x="8780040" y="-1351800"/>
            <a:ext cx="1716120" cy="988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 rot="8094600">
            <a:off x="6999120" y="-1928160"/>
            <a:ext cx="1655640" cy="925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新五千円日本銀行券（裏）"/>
          <p:cNvPicPr/>
          <p:nvPr/>
        </p:nvPicPr>
        <p:blipFill>
          <a:blip r:embed="rId11"/>
          <a:stretch/>
        </p:blipFill>
        <p:spPr>
          <a:xfrm rot="9756600">
            <a:off x="7457760" y="-1251000"/>
            <a:ext cx="1685880" cy="912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新五千円日本銀行券（表）"/>
          <p:cNvPicPr/>
          <p:nvPr/>
        </p:nvPicPr>
        <p:blipFill>
          <a:blip r:embed="rId12"/>
          <a:stretch/>
        </p:blipFill>
        <p:spPr>
          <a:xfrm rot="5972400">
            <a:off x="5632200" y="-1783440"/>
            <a:ext cx="1687680" cy="912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新一万円日本銀行券（裏）"/>
          <p:cNvPicPr/>
          <p:nvPr/>
        </p:nvPicPr>
        <p:blipFill>
          <a:blip r:embed="rId13"/>
          <a:stretch/>
        </p:blipFill>
        <p:spPr>
          <a:xfrm rot="9749400">
            <a:off x="5580000" y="-1611360"/>
            <a:ext cx="1728720" cy="905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新一万円日本銀行券（表）"/>
          <p:cNvPicPr/>
          <p:nvPr/>
        </p:nvPicPr>
        <p:blipFill>
          <a:blip r:embed="rId14"/>
          <a:stretch/>
        </p:blipFill>
        <p:spPr>
          <a:xfrm rot="6230400">
            <a:off x="3832560" y="-1712880"/>
            <a:ext cx="1801800" cy="942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5"/>
          <a:stretch/>
        </p:blipFill>
        <p:spPr>
          <a:xfrm>
            <a:off x="3822840" y="7677000"/>
            <a:ext cx="1716120" cy="98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6"/>
          <a:stretch/>
        </p:blipFill>
        <p:spPr>
          <a:xfrm>
            <a:off x="3030480" y="7101000"/>
            <a:ext cx="1656000" cy="925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新五千円日本銀行券（裏）"/>
          <p:cNvPicPr/>
          <p:nvPr/>
        </p:nvPicPr>
        <p:blipFill>
          <a:blip r:embed="rId17"/>
          <a:stretch/>
        </p:blipFill>
        <p:spPr>
          <a:xfrm rot="20309400">
            <a:off x="2526840" y="7893000"/>
            <a:ext cx="1685880" cy="912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新五千円日本銀行券（表）"/>
          <p:cNvPicPr/>
          <p:nvPr/>
        </p:nvPicPr>
        <p:blipFill>
          <a:blip r:embed="rId18"/>
          <a:stretch/>
        </p:blipFill>
        <p:spPr>
          <a:xfrm rot="21297000">
            <a:off x="684000" y="7676640"/>
            <a:ext cx="1687320" cy="912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新一万円日本銀行券（裏）"/>
          <p:cNvPicPr/>
          <p:nvPr/>
        </p:nvPicPr>
        <p:blipFill>
          <a:blip r:embed="rId19"/>
          <a:stretch/>
        </p:blipFill>
        <p:spPr>
          <a:xfrm rot="1107000">
            <a:off x="250560" y="7245360"/>
            <a:ext cx="1728720" cy="905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新一万円日本銀行券（表）"/>
          <p:cNvPicPr/>
          <p:nvPr/>
        </p:nvPicPr>
        <p:blipFill>
          <a:blip r:embed="rId20"/>
          <a:stretch/>
        </p:blipFill>
        <p:spPr>
          <a:xfrm rot="18885000">
            <a:off x="4863240" y="7530120"/>
            <a:ext cx="1801800" cy="942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1"/>
          <a:stretch/>
        </p:blipFill>
        <p:spPr>
          <a:xfrm rot="19494600">
            <a:off x="-1908000" y="1109520"/>
            <a:ext cx="1715760" cy="98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2"/>
          <a:stretch/>
        </p:blipFill>
        <p:spPr>
          <a:xfrm rot="19497000">
            <a:off x="-2412720" y="4710240"/>
            <a:ext cx="1656000" cy="925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新五千円日本銀行券（裏）"/>
          <p:cNvPicPr/>
          <p:nvPr/>
        </p:nvPicPr>
        <p:blipFill>
          <a:blip r:embed="rId23"/>
          <a:stretch/>
        </p:blipFill>
        <p:spPr>
          <a:xfrm rot="21168600">
            <a:off x="-2557080" y="4133520"/>
            <a:ext cx="1685880" cy="912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新五千円日本銀行券（表）"/>
          <p:cNvPicPr/>
          <p:nvPr/>
        </p:nvPicPr>
        <p:blipFill>
          <a:blip r:embed="rId24"/>
          <a:stretch/>
        </p:blipFill>
        <p:spPr>
          <a:xfrm rot="17381400">
            <a:off x="-2584440" y="3008160"/>
            <a:ext cx="1687680" cy="912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新一万円日本銀行券（裏）"/>
          <p:cNvPicPr/>
          <p:nvPr/>
        </p:nvPicPr>
        <p:blipFill>
          <a:blip r:embed="rId25"/>
          <a:stretch/>
        </p:blipFill>
        <p:spPr>
          <a:xfrm rot="21152400">
            <a:off x="-2124000" y="2060280"/>
            <a:ext cx="1728720" cy="904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新一万円日本銀行券（表）"/>
          <p:cNvPicPr/>
          <p:nvPr/>
        </p:nvPicPr>
        <p:blipFill>
          <a:blip r:embed="rId26"/>
          <a:stretch/>
        </p:blipFill>
        <p:spPr>
          <a:xfrm rot="17638200">
            <a:off x="-2484720" y="1033920"/>
            <a:ext cx="1801800" cy="943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7"/>
          <a:stretch/>
        </p:blipFill>
        <p:spPr>
          <a:xfrm rot="5979000">
            <a:off x="-2128320" y="5504760"/>
            <a:ext cx="1716120" cy="989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8"/>
          <a:stretch/>
        </p:blipFill>
        <p:spPr>
          <a:xfrm rot="5986800">
            <a:off x="-2874600" y="2409480"/>
            <a:ext cx="1655640" cy="925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新五千円日本銀行券（裏）"/>
          <p:cNvPicPr/>
          <p:nvPr/>
        </p:nvPicPr>
        <p:blipFill>
          <a:blip r:embed="rId29"/>
          <a:stretch/>
        </p:blipFill>
        <p:spPr>
          <a:xfrm rot="7651800">
            <a:off x="-1862280" y="-145440"/>
            <a:ext cx="1685880" cy="912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新五千円日本銀行券（表）"/>
          <p:cNvPicPr/>
          <p:nvPr/>
        </p:nvPicPr>
        <p:blipFill>
          <a:blip r:embed="rId30"/>
          <a:stretch/>
        </p:blipFill>
        <p:spPr>
          <a:xfrm rot="3863400">
            <a:off x="-2224080" y="155160"/>
            <a:ext cx="1687680" cy="912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新一万円日本銀行券（裏）"/>
          <p:cNvPicPr/>
          <p:nvPr/>
        </p:nvPicPr>
        <p:blipFill>
          <a:blip r:embed="rId31"/>
          <a:stretch/>
        </p:blipFill>
        <p:spPr>
          <a:xfrm rot="7647000">
            <a:off x="-2248920" y="5541120"/>
            <a:ext cx="1728720" cy="904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新一万円日本銀行券（表）"/>
          <p:cNvPicPr/>
          <p:nvPr/>
        </p:nvPicPr>
        <p:blipFill>
          <a:blip r:embed="rId32"/>
          <a:stretch/>
        </p:blipFill>
        <p:spPr>
          <a:xfrm rot="4117800">
            <a:off x="-2484720" y="4994280"/>
            <a:ext cx="1801800" cy="943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3"/>
          <a:stretch/>
        </p:blipFill>
        <p:spPr>
          <a:xfrm rot="19494600">
            <a:off x="9997560" y="838080"/>
            <a:ext cx="1716120" cy="98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4"/>
          <a:stretch/>
        </p:blipFill>
        <p:spPr>
          <a:xfrm rot="19497000">
            <a:off x="9492840" y="4438440"/>
            <a:ext cx="1655640" cy="925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新五千円日本銀行券（裏）"/>
          <p:cNvPicPr/>
          <p:nvPr/>
        </p:nvPicPr>
        <p:blipFill>
          <a:blip r:embed="rId35"/>
          <a:stretch/>
        </p:blipFill>
        <p:spPr>
          <a:xfrm rot="21168600">
            <a:off x="9348840" y="3862080"/>
            <a:ext cx="1685880" cy="912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新五千円日本銀行券（表）"/>
          <p:cNvPicPr/>
          <p:nvPr/>
        </p:nvPicPr>
        <p:blipFill>
          <a:blip r:embed="rId36"/>
          <a:stretch/>
        </p:blipFill>
        <p:spPr>
          <a:xfrm rot="17381400">
            <a:off x="9321480" y="2736720"/>
            <a:ext cx="1687680" cy="912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新一万円日本銀行券（裏）"/>
          <p:cNvPicPr/>
          <p:nvPr/>
        </p:nvPicPr>
        <p:blipFill>
          <a:blip r:embed="rId37"/>
          <a:stretch/>
        </p:blipFill>
        <p:spPr>
          <a:xfrm rot="21152400">
            <a:off x="9456480" y="1917360"/>
            <a:ext cx="1728720" cy="904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新一万円日本銀行券（表）"/>
          <p:cNvPicPr/>
          <p:nvPr/>
        </p:nvPicPr>
        <p:blipFill>
          <a:blip r:embed="rId38"/>
          <a:stretch/>
        </p:blipFill>
        <p:spPr>
          <a:xfrm rot="17638200">
            <a:off x="9542880" y="428760"/>
            <a:ext cx="1801800" cy="942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9"/>
          <a:stretch/>
        </p:blipFill>
        <p:spPr>
          <a:xfrm rot="5979000">
            <a:off x="9777240" y="5233680"/>
            <a:ext cx="1716120" cy="989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0"/>
          <a:stretch/>
        </p:blipFill>
        <p:spPr>
          <a:xfrm rot="5986800">
            <a:off x="9175320" y="365040"/>
            <a:ext cx="1655640" cy="925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新五千円日本銀行券（表）"/>
          <p:cNvPicPr/>
          <p:nvPr/>
        </p:nvPicPr>
        <p:blipFill>
          <a:blip r:embed="rId41"/>
          <a:stretch/>
        </p:blipFill>
        <p:spPr>
          <a:xfrm rot="3863400">
            <a:off x="9297720" y="-1299600"/>
            <a:ext cx="1687680" cy="912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新一万円日本銀行券（裏）"/>
          <p:cNvPicPr/>
          <p:nvPr/>
        </p:nvPicPr>
        <p:blipFill>
          <a:blip r:embed="rId42"/>
          <a:stretch/>
        </p:blipFill>
        <p:spPr>
          <a:xfrm rot="7647000">
            <a:off x="10208520" y="3048480"/>
            <a:ext cx="1728720" cy="905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新一万円日本銀行券（表）"/>
          <p:cNvPicPr/>
          <p:nvPr/>
        </p:nvPicPr>
        <p:blipFill>
          <a:blip r:embed="rId43"/>
          <a:stretch/>
        </p:blipFill>
        <p:spPr>
          <a:xfrm rot="4117800">
            <a:off x="9255240" y="5803200"/>
            <a:ext cx="1801800" cy="942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4"/>
          <a:stretch/>
        </p:blipFill>
        <p:spPr>
          <a:xfrm rot="396600">
            <a:off x="8214840" y="7223040"/>
            <a:ext cx="1656000" cy="925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新五千円日本銀行券（表）"/>
          <p:cNvPicPr/>
          <p:nvPr/>
        </p:nvPicPr>
        <p:blipFill>
          <a:blip r:embed="rId45"/>
          <a:stretch/>
        </p:blipFill>
        <p:spPr>
          <a:xfrm rot="16519800">
            <a:off x="6848640" y="7367040"/>
            <a:ext cx="1687320" cy="912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新一万円日本銀行券（表）"/>
          <p:cNvPicPr/>
          <p:nvPr/>
        </p:nvPicPr>
        <p:blipFill>
          <a:blip r:embed="rId46"/>
          <a:stretch/>
        </p:blipFill>
        <p:spPr>
          <a:xfrm rot="20001000">
            <a:off x="5797440" y="7287840"/>
            <a:ext cx="1801800" cy="942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7"/>
          <a:stretch/>
        </p:blipFill>
        <p:spPr>
          <a:xfrm rot="1195200">
            <a:off x="7448040" y="7799040"/>
            <a:ext cx="1716120" cy="988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8"/>
          <a:stretch/>
        </p:blipFill>
        <p:spPr>
          <a:xfrm rot="533400">
            <a:off x="5003280" y="7245000"/>
            <a:ext cx="1656000" cy="925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新五千円日本銀行券（裏）"/>
          <p:cNvPicPr/>
          <p:nvPr/>
        </p:nvPicPr>
        <p:blipFill>
          <a:blip r:embed="rId49"/>
          <a:stretch/>
        </p:blipFill>
        <p:spPr>
          <a:xfrm rot="20309400">
            <a:off x="826920" y="7173720"/>
            <a:ext cx="1686240" cy="912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新五千円日本銀行券（表）"/>
          <p:cNvPicPr/>
          <p:nvPr/>
        </p:nvPicPr>
        <p:blipFill>
          <a:blip r:embed="rId50"/>
          <a:stretch/>
        </p:blipFill>
        <p:spPr>
          <a:xfrm rot="20843400">
            <a:off x="1979640" y="7100640"/>
            <a:ext cx="1687320" cy="912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新一万円日本銀行券（裏）"/>
          <p:cNvPicPr/>
          <p:nvPr/>
        </p:nvPicPr>
        <p:blipFill>
          <a:blip r:embed="rId51"/>
          <a:stretch/>
        </p:blipFill>
        <p:spPr>
          <a:xfrm rot="20294400">
            <a:off x="3563640" y="7461360"/>
            <a:ext cx="1728720" cy="904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新一万円日本銀行券（表）"/>
          <p:cNvPicPr/>
          <p:nvPr/>
        </p:nvPicPr>
        <p:blipFill>
          <a:blip r:embed="rId52"/>
          <a:stretch/>
        </p:blipFill>
        <p:spPr>
          <a:xfrm rot="16787400">
            <a:off x="-1186200" y="7603560"/>
            <a:ext cx="1801800" cy="942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新一万円日本銀行券（表）"/>
          <p:cNvPicPr/>
          <p:nvPr/>
        </p:nvPicPr>
        <p:blipFill>
          <a:blip r:embed="rId53"/>
          <a:stretch/>
        </p:blipFill>
        <p:spPr>
          <a:xfrm rot="703200">
            <a:off x="8241840" y="7821720"/>
            <a:ext cx="1801800" cy="94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xit" presetID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50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9500"/>
                            </p:stCondLst>
                            <p:childTnLst>
                              <p:par>
                                <p:cTn id="2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タクン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タカシ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3" action="ppaction://hlinksldjump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タシク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タクシ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-612720" y="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516720" y="1916280"/>
            <a:ext cx="262728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189000"/>
            <a:ext cx="5976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 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40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行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am going there by tax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9"/>
          <a:stretch/>
        </p:blipFill>
        <p:spPr>
          <a:xfrm>
            <a:off x="3851280" y="2421000"/>
            <a:ext cx="2612880" cy="17002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564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3" dur="28003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2" dur="2612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669960" cy="245592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スてい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3" action="ppaction://hlinksldjump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スいて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スてい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スバてい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5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7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-828720" y="0"/>
            <a:ext cx="389160" cy="388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07280" y="1557360"/>
            <a:ext cx="273672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189000"/>
            <a:ext cx="6193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MS PGothic"/>
              </a:rPr>
              <a:t>0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　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32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  <a:ea typeface="MS PGothic"/>
              </a:rPr>
              <a:t>あるいて行き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am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walk</a:t>
            </a:r>
            <a:r>
              <a:rPr b="0" lang="ja-JP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 the bus s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8" dur="28003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8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7" dur="2612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ヒルから、レストランま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ビルから、レストランま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2" action="ppaction://hlinksldjump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レストランから、ビルま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3" action="ppaction://hlinksldjump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ビルから、レスントラま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8"/>
          <a:stretch/>
        </p:blipFill>
        <p:spPr>
          <a:xfrm>
            <a:off x="-612720" y="18900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1268280"/>
            <a:ext cx="2700360" cy="319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0920" y="189000"/>
            <a:ext cx="59767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11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         　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40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行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am going from the building to the restau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9"/>
          <a:stretch/>
        </p:blipFill>
        <p:spPr>
          <a:xfrm>
            <a:off x="826920" y="3284640"/>
            <a:ext cx="1433520" cy="14396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0"/>
          <a:stretch/>
        </p:blipFill>
        <p:spPr>
          <a:xfrm>
            <a:off x="3132000" y="3141720"/>
            <a:ext cx="2160720" cy="9507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7576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8960" y="59500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1420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4328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3" dur="28003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8" presetSubtype="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7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928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35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3" dur="2612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539640" y="50846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ハンやから、スーパーま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nextslide"/>
          </p:cNvPr>
          <p:cNvSpPr/>
          <p:nvPr/>
        </p:nvSpPr>
        <p:spPr>
          <a:xfrm>
            <a:off x="4932360" y="61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パンやから、スーパーま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rId2" action="ppaction://hlinksldjump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パンやから、パースま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3" action="ppaction://hlinksldjump"/>
          </p:cNvPr>
          <p:cNvSpPr/>
          <p:nvPr/>
        </p:nvSpPr>
        <p:spPr>
          <a:xfrm>
            <a:off x="4932360" y="508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パンやから、スーハーま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-612720" y="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516720" y="981000"/>
            <a:ext cx="2627280" cy="319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50920" y="0"/>
            <a:ext cx="597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　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40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行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am going from the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bakery</a:t>
            </a:r>
            <a:r>
              <a:rPr b="0" lang="ja-JP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 the super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826920" y="3068640"/>
            <a:ext cx="1643400" cy="1170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3492360" y="2708280"/>
            <a:ext cx="1389240" cy="13446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75760" y="5076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1520" y="6156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69480" y="501336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43280" y="602136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9" dur="28003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7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986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4" dur="2612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468360" y="508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ゲームセンターに、バイク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rId1" action="ppaction://hlinksldjump"/>
          </p:cNvPr>
          <p:cNvSpPr/>
          <p:nvPr/>
        </p:nvSpPr>
        <p:spPr>
          <a:xfrm>
            <a:off x="4859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ゲームセンターに、ハイクで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rId2" action="ppaction://hlinksldjump"/>
          </p:cNvPr>
          <p:cNvSpPr/>
          <p:nvPr/>
        </p:nvSpPr>
        <p:spPr>
          <a:xfrm>
            <a:off x="468360" y="6165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ゲームサシクーに、イクバ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3" action="ppaction://hlinksldjump"/>
          </p:cNvPr>
          <p:cNvSpPr/>
          <p:nvPr/>
        </p:nvSpPr>
        <p:spPr>
          <a:xfrm>
            <a:off x="4932360" y="508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ゲークセンターに、バイク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8"/>
          <a:stretch/>
        </p:blipFill>
        <p:spPr>
          <a:xfrm>
            <a:off x="-684360" y="0"/>
            <a:ext cx="389160" cy="3888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516720" y="692280"/>
            <a:ext cx="262728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189000"/>
            <a:ext cx="612144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　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40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行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am going to the game centre by motor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9"/>
          <a:stretch/>
        </p:blipFill>
        <p:spPr>
          <a:xfrm>
            <a:off x="755640" y="3284640"/>
            <a:ext cx="1390680" cy="12906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0"/>
          <a:stretch/>
        </p:blipFill>
        <p:spPr>
          <a:xfrm>
            <a:off x="2556000" y="2708280"/>
            <a:ext cx="1922400" cy="1494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24840" y="486900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5040" y="59500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498200" y="486900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42764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0" dur="28003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3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9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030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6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037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5" dur="2612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ホテルまで、バイク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スまで、プール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プールから、バス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プールまで、バス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rId2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3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4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-757080" y="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443640" y="333360"/>
            <a:ext cx="270036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189000"/>
            <a:ext cx="583380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どのぐらいかかり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How long does</a:t>
            </a:r>
            <a:r>
              <a:rPr b="0" lang="ja-JP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it take to the swimming pool by b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611280" y="3573360"/>
            <a:ext cx="1173240" cy="11448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4356000" y="2637000"/>
            <a:ext cx="1887480" cy="14158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7576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0240" y="59500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8548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59280" y="602136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1" dur="28003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082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08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7" dur="2612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5219640" y="3500280"/>
            <a:ext cx="1101960" cy="7178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684360" y="49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スーパーから、ポストまで、タクシ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003640" y="60357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ホテルから、デパートまで、タクシ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84360" y="60357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デパートから、ホテルまで、タクシ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076720" y="4941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デパートに、ホテルまで、タクシー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2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3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rId4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6"/>
          <a:stretch/>
        </p:blipFill>
        <p:spPr>
          <a:xfrm>
            <a:off x="-900000" y="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9280" y="189000"/>
            <a:ext cx="59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15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　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  <a:ea typeface="MS PGothic"/>
              </a:rPr>
              <a:t>…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どのぐらいかかり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How long does</a:t>
            </a:r>
            <a:r>
              <a:rPr b="0" lang="ja-JP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it take from the department to the hotel</a:t>
            </a:r>
            <a:r>
              <a:rPr b="0" lang="ja-JP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by tax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1640" y="0"/>
            <a:ext cx="2592360" cy="404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7"/>
          <a:stretch/>
        </p:blipFill>
        <p:spPr>
          <a:xfrm>
            <a:off x="0" y="3573360"/>
            <a:ext cx="1217520" cy="12240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1403280" y="3573360"/>
            <a:ext cx="1392480" cy="10191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7576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18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112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3" dur="28003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3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5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7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138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4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4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3" dur="2612" fill="hold"/>
                                        <p:tgtEl>
                                          <p:spTgt spid="4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I Think the Answer 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7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9540720" y="2852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395280" y="1557360"/>
            <a:ext cx="2952720" cy="1511280"/>
          </a:xfrm>
          <a:prstGeom prst="wedgeRoundRectCallout">
            <a:avLst>
              <a:gd name="adj1" fmla="val 41074"/>
              <a:gd name="adj2" fmla="val -78046"/>
              <a:gd name="adj3" fmla="val 16667"/>
            </a:avLst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だ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おもい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9" dur="3992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3992"/>
                            </p:stCondLst>
                            <p:childTnLst>
                              <p:par>
                                <p:cTn id="11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4992"/>
                            </p:stCondLst>
                            <p:childTnLst>
                              <p:par>
                                <p:cTn id="1167" nodeType="after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DED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6992"/>
                            </p:stCondLst>
                            <p:childTnLst>
                              <p:par>
                                <p:cTn id="11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I Think the Answer 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56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468000" y="3429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95280" y="1557360"/>
            <a:ext cx="2952720" cy="1511280"/>
          </a:xfrm>
          <a:prstGeom prst="wedgeRoundRectCallout">
            <a:avLst>
              <a:gd name="adj1" fmla="val 41074"/>
              <a:gd name="adj2" fmla="val -78046"/>
              <a:gd name="adj3" fmla="val 16667"/>
            </a:avLst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だ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おもい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4" dur="3992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3992"/>
                            </p:stCondLst>
                            <p:childTnLst>
                              <p:par>
                                <p:cTn id="1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4992"/>
                            </p:stCondLst>
                            <p:childTnLst>
                              <p:par>
                                <p:cTn id="1192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DED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6992"/>
                            </p:stCondLst>
                            <p:childTnLst>
                              <p:par>
                                <p:cTn id="11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I Think the Answer 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556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9468000" y="350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95280" y="1557360"/>
            <a:ext cx="2952720" cy="1511280"/>
          </a:xfrm>
          <a:prstGeom prst="wedgeRoundRectCallout">
            <a:avLst>
              <a:gd name="adj1" fmla="val 41074"/>
              <a:gd name="adj2" fmla="val -78046"/>
              <a:gd name="adj3" fmla="val 16667"/>
            </a:avLst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だ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おもい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0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8" dur="3992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992"/>
                            </p:stCondLst>
                            <p:childTnLst>
                              <p:par>
                                <p:cTn id="12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4992"/>
                            </p:stCondLst>
                            <p:childTnLst>
                              <p:par>
                                <p:cTn id="121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DED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7992"/>
                            </p:stCondLst>
                            <p:childTnLst>
                              <p:par>
                                <p:cTn id="1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11280" y="47628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MS PGothic"/>
              </a:rPr>
              <a:t>　　　　　　日本語で、何です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スーパ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スて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パン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グラウン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590400" y="70074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1"/>
          <a:stretch/>
        </p:blipFill>
        <p:spPr>
          <a:xfrm>
            <a:off x="-757080" y="26028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36480" y="738036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2"/>
          <a:stretch/>
        </p:blipFill>
        <p:spPr>
          <a:xfrm>
            <a:off x="539640" y="1628640"/>
            <a:ext cx="2938680" cy="2092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635280" y="314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Kristen ITC"/>
                <a:ea typeface="MS PGothic"/>
              </a:rPr>
              <a:t>bak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16720" y="4292640"/>
            <a:ext cx="2627280" cy="392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3564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6" dur="28003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93"/>
                </p:tgtEl>
              </p:cMediaNode>
            </p:audio>
            <p:seq>
              <p:cTn id="48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2612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I Think the Answer 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10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2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9468000" y="3429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395280" y="1557360"/>
            <a:ext cx="2952720" cy="1511280"/>
          </a:xfrm>
          <a:prstGeom prst="wedgeRoundRectCallout">
            <a:avLst>
              <a:gd name="adj1" fmla="val 41074"/>
              <a:gd name="adj2" fmla="val -78046"/>
              <a:gd name="adj3" fmla="val 16667"/>
            </a:avLst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だ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おもい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2" dur="3992" fill="hold"/>
                                        <p:tgtEl>
                                          <p:spTgt spid="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3992"/>
                            </p:stCondLst>
                            <p:childTnLst>
                              <p:par>
                                <p:cTn id="1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4992"/>
                            </p:stCondLst>
                            <p:childTnLst>
                              <p:par>
                                <p:cTn id="1250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DED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6992"/>
                            </p:stCondLst>
                            <p:childTnLst>
                              <p:par>
                                <p:cTn id="1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I Think the Answer is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662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3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700" spc="-1" strike="noStrike">
                <a:solidFill>
                  <a:srgbClr val="ff3300"/>
                </a:solidFill>
                <a:latin typeface="Comic Sans MS"/>
              </a:rPr>
              <a:t>I’m not too sure</a:t>
            </a: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9540720" y="3357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24000" y="4076640"/>
            <a:ext cx="2124000" cy="1513080"/>
          </a:xfrm>
          <a:prstGeom prst="wedgeRoundRectCallout">
            <a:avLst>
              <a:gd name="adj1" fmla="val 38490"/>
              <a:gd name="adj2" fmla="val -103199"/>
              <a:gd name="adj3" fmla="val 16667"/>
            </a:avLst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わかりませ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0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2" dur="3992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3992"/>
                            </p:stCondLst>
                            <p:childTnLst>
                              <p:par>
                                <p:cTn id="12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4992"/>
                            </p:stCondLst>
                            <p:childTnLst>
                              <p:par>
                                <p:cTn id="1280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DED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6992"/>
                            </p:stCondLst>
                            <p:childTnLst>
                              <p:par>
                                <p:cTn id="1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25440" y="0"/>
            <a:ext cx="8578800" cy="6524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           B            C         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816200" y="1444680"/>
            <a:ext cx="885600" cy="445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19360" y="1424160"/>
            <a:ext cx="885960" cy="449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207040" y="1449360"/>
            <a:ext cx="885960" cy="444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48640" y="1419120"/>
            <a:ext cx="885600" cy="445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70080" y="-35388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62640" y="-36360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92320" y="-289080"/>
            <a:ext cx="186084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305400" y="-361800"/>
            <a:ext cx="186084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2372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udience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5040" y="7047000"/>
            <a:ext cx="236520" cy="35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0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9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raph.wav"/>
                                        </p:tgtEl>
                                      </p:cMediaNode>
                                    </p:audio>
                                    <p:animMotion origin="layout" path="M -1.66667E-006 4.33727E-006 C 0.00573 -0.07495 -0.00729 -0.15753 0.00712 -0.23202 C 0.00747 -0.23873 0.00764 -0.24567 0.00816 -0.25237 C 0.00851 -0.25608 0.00938 -0.26718 0.00938 -0.26348 C 0.00938 -0.23664 0.00591 -0.21004 0.00591 -0.18344 C 0.00591 -0.18182 0.00677 -0.18668 0.00712 -0.1883 C 0.01025 -0.22554 0.00643 -0.17026 0.01059 -0.1536 C 0.0408 -0.16771 0.01355 -0.24844 0.0165 -0.2917 C 0.01615 -0.3183 0.01667 -0.3449 0.01528 -0.3715 C 0.01511 -0.37474 0.0132 -0.36549 0.01285 -0.36225 C 0.01129 -0.35022 0.01198 -0.35693 0.01059 -0.3419 C 0.00973 -0.2998 0.00799 -0.25816 0.00469 -0.21629 C 0.00504 -0.16147 0.00504 -0.10664 0.00591 -0.05182 C 0.00591 -0.04974 0.00712 -0.05598 0.00712 -0.05806 C 0.00712 -0.08513 0.00695 -0.11243 0.00591 -0.13949 C 0.00573 -0.14504 0.0033 -0.1499 0.00226 -0.15522 C 0.00052 -0.21768 0.00122 -0.27898 0.00122 -0.3419 E">
                                      <p:cBhvr>
                                        <p:cTn id="1300" dur="3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07495E-006 C -0.00504 -0.01573 -0.00833 -0.03609 -0.01771 -0.04858 C -0.02274 -0.07171 -0.02379 -0.09577 -0.0283 -0.11913 C -0.03004 -0.14897 -0.03021 -0.14226 -0.0283 -0.18182 C -0.02761 -0.19732 -0.02292 -0.21328 -0.02118 -0.22878 C -0.01858 -0.27481 -0.02101 -0.32108 -0.01649 -0.36688 C -0.01441 -0.33796 -0.01563 -0.30835 -0.00833 -0.28059 C -0.00799 -0.27065 -0.00764 -0.2607 -0.00712 -0.25075 C -0.00417 -0.19223 -0.00556 -0.27874 -0.00469 -0.31668 C -0.00434 -0.33334 -0.00313 -0.35022 -0.00243 -0.36688 C -0.00139 -0.32293 0.00087 -0.27921 0.00347 -0.23526 C 0.00417 -0.127 0.00382 -0.08328 0.00694 2.07495E-006 C 0.01233 -0.02082 0.00937 -0.00625 0.00937 -0.04557 E">
                                      <p:cBhvr>
                                        <p:cTn id="1302" dur="3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58316E-006 C -0.00052 -0.01758 -0.00278 -0.06662 5E-006 -0.08305 C 0.00069 -0.08675 0.00469 -0.07379 0.00469 -0.07379 C 0.00504 -0.06292 0.00539 -0.05182 0.00591 -0.04095 C 0.00626 -0.0347 0.00331 -0.02568 0.00713 -0.02198 C 0.01042 -0.01897 0.00869 -0.03239 0.00938 -0.03771 C 0.00834 -0.04419 0.00643 -0.065 0.01181 -0.04395 C 0.01216 -0.03979 0.01251 -0.03563 0.01303 -0.03146 C 0.0132 -0.02984 0.0139 -0.02522 0.01407 -0.02684 C 0.01876 -0.05668 0.01181 -0.03678 0.01772 -0.05182 C 0.02084 -0.04326 0.0198 -0.03748 0.02588 -0.04557 C 0.02952 -0.05968 0.02813 -0.05668 0.03056 -0.04557 C 0.03022 -0.04303 0.02952 -0.03493 0.02952 -0.03771 C 0.02952 -0.06385 0.03056 -0.08999 0.03056 -0.11613 C 0.03056 -0.13764 0.03317 -0.16401 0.02362 -0.18344 C 0.0139 -0.2459 0.01824 -0.21536 0.02362 -0.36225 C 0.02379 -0.36595 0.02692 -0.35601 0.02831 -0.35277 C 0.03074 -0.34698 0.03247 -0.33866 0.03421 -0.33241 C 0.0356 -0.26718 0.03629 -0.26649 0.03525 -0.18668 C 0.03369 -0.2038 0.0356 -0.22091 0.03647 -0.23826 C 0.0356 -0.25931 0.03647 -0.27875 0.03647 -0.29956 E">
                                      <p:cBhvr>
                                        <p:cTn id="1304" dur="3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6.60421E-006 C -0.00192 -0.01296 -0.00035 -0.00325 -0.00348 -0.01736 C -0.00382 -0.01898 -0.00226 -0.0125 -0.00226 -0.0125 C -0.00192 -0.01666 -0.00278 -0.02129 -0.00122 -0.02499 C -0.00053 -0.02661 0.00069 -0.02198 0.00121 -0.02036 C 0.00277 -0.01574 0.00364 -0.00949 0.00468 -0.00463 C 0.00555 -0.01458 0.00729 -0.02314 0.00833 -0.03286 C 0.00868 -0.03124 0.00937 -0.02985 0.00937 -0.02823 C 0.00937 -0.02661 0.0092 -0.02268 0.00833 -0.0236 C 0.0059 -0.02615 0.0052 -0.03077 0.00364 -0.03447 C 0.00329 -0.03702 0.00433 -0.04326 0.00243 -0.04234 C -6.38888999999988E-006 -0.04118 -6.38889E-006 -0.03286 -6.38889E-006 -0.03286 C 0.00347 -0.07704 -0.000699999999999999 -0.06894 0.00833 -0.05182 C 0.01076 -0.04095 0.01058 -0.04234 0.00833 -0.02823 C 0.00868 -0.05437 0.00885 -0.08051 0.00937 -0.10665 C 0.00954 -0.11335 0.00815 -0.12099 0.01058 -0.127 C 0.01284 -0.13255 0.01145 -0.11428 0.01302 -0.10827 C 0.01215 -0.09577 0.01249 -0.08282 0.01058 -0.07056 C 0.01024 -0.06825 0.0092 -0.07472 0.00833 -0.07681 C 0.00763 -0.07843 0.00659 -0.07981 0.0059 -0.08143 C 0.00208 -0.0893 0.00121 -0.09762 -6.38889E-006 -0.10665 C 0.0019 -0.1425 0.00121 -0.12214 0.00121 -0.16772 E">
                                      <p:cBhvr>
                                        <p:cTn id="1306" dur="3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25440" y="0"/>
            <a:ext cx="8578800" cy="6524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           B            C         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816200" y="1444680"/>
            <a:ext cx="885600" cy="445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19360" y="1424160"/>
            <a:ext cx="885960" cy="449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07040" y="1449360"/>
            <a:ext cx="885960" cy="444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48640" y="1419120"/>
            <a:ext cx="885600" cy="445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22560" y="-29052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62640" y="-36360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357200" y="-311040"/>
            <a:ext cx="186084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364440" y="-403200"/>
            <a:ext cx="1860480" cy="6477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36680" y="48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udience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040" y="7047000"/>
            <a:ext cx="236520" cy="35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0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5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raph.wav"/>
                                        </p:tgtEl>
                                      </p:cMediaNode>
                                    </p:audio>
                                    <p:animMotion origin="layout" path="M -1.66667E-006 4.33727E-006 C 0.00573 -0.07495 -0.00729 -0.15753 0.00712 -0.23202 C 0.00747 -0.23873 0.00764 -0.24567 0.00816 -0.25237 C 0.00851 -0.25608 0.00938 -0.26718 0.00938 -0.26348 C 0.00938 -0.23664 0.00591 -0.21004 0.00591 -0.18344 C 0.00591 -0.18182 0.00677 -0.18668 0.00712 -0.1883 C 0.01025 -0.22554 0.00643 -0.17026 0.01059 -0.1536 C 0.0408 -0.16771 0.01355 -0.24844 0.0165 -0.2917 C 0.01615 -0.3183 0.01667 -0.3449 0.01528 -0.3715 C 0.01511 -0.37474 0.0132 -0.36549 0.01285 -0.36225 C 0.01129 -0.35022 0.01198 -0.35693 0.01059 -0.3419 C 0.00973 -0.2998 0.00799 -0.25816 0.00469 -0.21629 C 0.00504 -0.16147 0.00504 -0.10664 0.00591 -0.05182 C 0.00591 -0.04974 0.00712 -0.05598 0.00712 -0.05806 C 0.00712 -0.08513 0.00695 -0.11243 0.00591 -0.13949 C 0.00573 -0.14504 0.0033 -0.1499 0.00226 -0.15522 C 0.00052 -0.21768 0.00122 -0.27898 0.00122 -0.3419 E">
                                      <p:cBhvr>
                                        <p:cTn id="1316" dur="3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07495E-006 C -0.00504 -0.01573 -0.00833 -0.03609 -0.01771 -0.04858 C -0.02274 -0.07171 -0.02379 -0.09577 -0.0283 -0.11913 C -0.03004 -0.14897 -0.03021 -0.14226 -0.0283 -0.18182 C -0.02761 -0.19732 -0.02292 -0.21328 -0.02118 -0.22878 C -0.01858 -0.27481 -0.02101 -0.32108 -0.01649 -0.36688 C -0.01441 -0.33796 -0.01563 -0.30835 -0.00833 -0.28059 C -0.00799 -0.27065 -0.00764 -0.2607 -0.00712 -0.25075 C -0.00417 -0.19223 -0.00556 -0.27874 -0.00469 -0.31668 C -0.00434 -0.33334 -0.00313 -0.35022 -0.00243 -0.36688 C -0.00139 -0.32293 0.00087 -0.27921 0.00347 -0.23526 C 0.00417 -0.127 0.00382 -0.08328 0.00694 2.07495E-006 C 0.01233 -0.02082 0.00937 -0.00625 0.00937 -0.04557 E">
                                      <p:cBhvr>
                                        <p:cTn id="1318" dur="3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58316E-006 C -0.00052 -0.01758 -0.00278 -0.06662 5E-006 -0.08305 C 0.00069 -0.08675 0.00469 -0.07379 0.00469 -0.07379 C 0.00504 -0.06292 0.00539 -0.05182 0.00591 -0.04095 C 0.00626 -0.0347 0.00331 -0.02568 0.00713 -0.02198 C 0.01042 -0.01897 0.00869 -0.03239 0.00938 -0.03771 C 0.00834 -0.04419 0.00643 -0.065 0.01181 -0.04395 C 0.01216 -0.03979 0.01251 -0.03563 0.01303 -0.03146 C 0.0132 -0.02984 0.0139 -0.02522 0.01407 -0.02684 C 0.01876 -0.05668 0.01181 -0.03678 0.01772 -0.05182 C 0.02084 -0.04326 0.0198 -0.03748 0.02588 -0.04557 C 0.02952 -0.05968 0.02813 -0.05668 0.03056 -0.04557 C 0.03022 -0.04303 0.02952 -0.03493 0.02952 -0.03771 C 0.02952 -0.06385 0.03056 -0.08999 0.03056 -0.11613 C 0.03056 -0.13764 0.03317 -0.16401 0.02362 -0.18344 C 0.0139 -0.2459 0.01824 -0.21536 0.02362 -0.36225 C 0.02379 -0.36595 0.02692 -0.35601 0.02831 -0.35277 C 0.03074 -0.34698 0.03247 -0.33866 0.03421 -0.33241 C 0.0356 -0.26718 0.03629 -0.26649 0.03525 -0.18668 C 0.03369 -0.2038 0.0356 -0.22091 0.03647 -0.23826 C 0.0356 -0.25931 0.03647 -0.27875 0.03647 -0.29956 E">
                                      <p:cBhvr>
                                        <p:cTn id="1320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2.45431E-006 C 0.0007 -0.1108 -0.04253 -0.2415 0.00521 -0.33218 C 0.00747 -0.34559 0.00625 -0.33171 0.00382 -0.34328 C 0.00313 -0.34744 0.00348 -0.35161 0.00278 -0.35577 C 0.00226 -0.35901 0.00104 -0.36202 0.00018 -0.36526 C -0.00017 -0.36687 0.00139 -0.3604 0.00139 -0.3604 C 0.00191 -0.35161 0.00104 -0.34235 0.00278 -0.3338 C 0.00313 -0.33148 0.00452 -0.33796 0.00521 -0.34004 C 0.00573 -0.34166 0.00573 -0.34328 0.00625 -0.3449 C 0.00851 -0.3523 0.01129 -0.35762 0.01337 -0.36526 C 0.01372 -0.36687 0.01233 -0.36202 0.01216 -0.3604 C 0.01146 -0.35762 0.0099 -0.35115 0.0099 -0.35115 C 0.00903 -0.35276 0.00886 -0.35647 0.00747 -0.35577 C 0.00382 -0.35415 0.00104 -0.34259 -0.00069 -0.33865 C -0.00277 -0.34582 -0.00017 -0.37451 -0.00451 -0.35901 C -0.00416 -0.33703 -0.00451 -0.31506 -0.00312 -0.29308 C -0.00295 -0.29123 -0.00156 -0.29609 -0.00069 -0.29771 C 0.00104 -0.3028 0.00191 -0.30974 0.00278 -0.31506 C -0.00416 -0.46495 -0.00503 0.01249 0.00382 -0.11751 C -0.00225 -0.14157 0.00139 -0.15452 0.00139 -0.18806 E">
                                      <p:cBhvr>
                                        <p:cTn id="1322" dur="3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25440" y="0"/>
            <a:ext cx="8578800" cy="6524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           B            C         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16200" y="1444680"/>
            <a:ext cx="885600" cy="445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519360" y="1424160"/>
            <a:ext cx="885960" cy="449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207040" y="1449360"/>
            <a:ext cx="885960" cy="444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48640" y="1419120"/>
            <a:ext cx="885600" cy="445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65680" y="-32076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08080" y="-33012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88280" y="-27612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21040" y="-479520"/>
            <a:ext cx="1860480" cy="6477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6040" y="48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udience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65040" y="7047000"/>
            <a:ext cx="236520" cy="35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raph.wav"/>
                                        </p:tgtEl>
                                      </p:cMediaNode>
                                    </p:audio>
                                    <p:animMotion origin="layout" path="M 1.94444E-006 2.07495E-006 C -0.00504 -0.01573 -0.00833 -0.03609 -0.01771 -0.04858 C -0.02274 -0.07171 -0.02379 -0.09577 -0.0283 -0.11913 C -0.03004 -0.14897 -0.03021 -0.14226 -0.0283 -0.18182 C -0.02761 -0.19732 -0.02292 -0.21328 -0.02118 -0.22878 C -0.01858 -0.27481 -0.02101 -0.32108 -0.01649 -0.36688 C -0.01441 -0.33796 -0.01563 -0.30835 -0.00833 -0.28059 C -0.00799 -0.27065 -0.00764 -0.2607 -0.00712 -0.25075 C -0.00417 -0.19223 -0.00556 -0.27874 -0.00469 -0.31668 C -0.00434 -0.33334 -0.00313 -0.35022 -0.00243 -0.36688 C -0.00139 -0.32293 0.00087 -0.27921 0.00347 -0.23526 C 0.00417 -0.127 0.00382 -0.08328 0.00694 2.07495E-006 C 0.01233 -0.02082 0.00937 -0.00625 0.00937 -0.04557 E">
                                      <p:cBhvr>
                                        <p:cTn id="1332" dur="3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3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raph.wav"/>
                                        </p:tgtEl>
                                      </p:cMediaNode>
                                    </p:audio>
                                    <p:animMotion origin="layout" path="M -1.66667E-006 4.33727E-006 C 0.00573 -0.07495 -0.00729 -0.15753 0.00712 -0.23202 C 0.00747 -0.23873 0.00764 -0.24567 0.00816 -0.25237 C 0.00851 -0.25608 0.00938 -0.26718 0.00938 -0.26348 C 0.00938 -0.23664 0.00591 -0.21004 0.00591 -0.18344 C 0.00591 -0.18182 0.00677 -0.18668 0.00712 -0.1883 C 0.01025 -0.22554 0.00643 -0.17026 0.01059 -0.1536 C 0.0408 -0.16771 0.01355 -0.24844 0.0165 -0.2917 C 0.01615 -0.3183 0.01667 -0.3449 0.01528 -0.3715 C 0.01511 -0.37474 0.0132 -0.36549 0.01285 -0.36225 C 0.01129 -0.35022 0.01198 -0.35693 0.01059 -0.3419 C 0.00973 -0.2998 0.00799 -0.25816 0.00469 -0.21629 C 0.00504 -0.16147 0.00504 -0.10664 0.00591 -0.05182 C 0.00591 -0.04974 0.00712 -0.05598 0.00712 -0.05806 C 0.00712 -0.08513 0.00695 -0.11243 0.00591 -0.13949 C 0.00573 -0.14504 0.0033 -0.1499 0.00226 -0.15522 C 0.00052 -0.21768 0.00122 -0.27898 0.00122 -0.3419 E">
                                      <p:cBhvr>
                                        <p:cTn id="1334" dur="3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58316E-006 C -0.00052 -0.01758 -0.00278 -0.06662 5E-006 -0.08305 C 0.00069 -0.08675 0.00469 -0.07379 0.00469 -0.07379 C 0.00504 -0.06292 0.00539 -0.05182 0.00591 -0.04095 C 0.00626 -0.0347 0.00331 -0.02568 0.00713 -0.02198 C 0.01042 -0.01897 0.00869 -0.03239 0.00938 -0.03771 C 0.00834 -0.04419 0.00643 -0.065 0.01181 -0.04395 C 0.01216 -0.03979 0.01251 -0.03563 0.01303 -0.03146 C 0.0132 -0.02984 0.0139 -0.02522 0.01407 -0.02684 C 0.01876 -0.05668 0.01181 -0.03678 0.01772 -0.05182 C 0.02084 -0.04326 0.0198 -0.03748 0.02588 -0.04557 C 0.02952 -0.05968 0.02813 -0.05668 0.03056 -0.04557 C 0.03022 -0.04303 0.02952 -0.03493 0.02952 -0.03771 C 0.02952 -0.06385 0.03056 -0.08999 0.03056 -0.11613 C 0.03056 -0.13764 0.03317 -0.16401 0.02362 -0.18344 C 0.0139 -0.2459 0.01824 -0.21536 0.02362 -0.36225 C 0.02379 -0.36595 0.02692 -0.35601 0.02831 -0.35277 C 0.03074 -0.34698 0.03247 -0.33866 0.03421 -0.33241 C 0.0356 -0.26718 0.03629 -0.26649 0.03525 -0.18668 C 0.03369 -0.2038 0.0356 -0.22091 0.03647 -0.23826 C 0.0356 -0.25931 0.03647 -0.27875 0.03647 -0.29956 E">
                                      <p:cBhvr>
                                        <p:cTn id="1336" dur="3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2.45431E-006 C 0.0007 -0.1108 -0.04253 -0.2415 0.00521 -0.33218 C 0.00747 -0.34559 0.00625 -0.33171 0.00382 -0.34328 C 0.00313 -0.34744 0.00348 -0.35161 0.00278 -0.35577 C 0.00226 -0.35901 0.00104 -0.36202 0.00018 -0.36526 C -0.00017 -0.36687 0.00139 -0.3604 0.00139 -0.3604 C 0.00191 -0.35161 0.00104 -0.34235 0.00278 -0.3338 C 0.00313 -0.33148 0.00452 -0.33796 0.00521 -0.34004 C 0.00573 -0.34166 0.00573 -0.34328 0.00625 -0.3449 C 0.00851 -0.3523 0.01129 -0.35762 0.01337 -0.36526 C 0.01372 -0.36687 0.01233 -0.36202 0.01216 -0.3604 C 0.01146 -0.35762 0.0099 -0.35115 0.0099 -0.35115 C 0.00903 -0.35276 0.00886 -0.35647 0.00747 -0.35577 C 0.00382 -0.35415 0.00104 -0.34259 -0.00069 -0.33865 C -0.00277 -0.34582 -0.00017 -0.37451 -0.00451 -0.35901 C -0.00416 -0.33703 -0.00451 -0.31506 -0.00312 -0.29308 C -0.00295 -0.29123 -0.00156 -0.29609 -0.00069 -0.29771 C 0.00104 -0.3028 0.00191 -0.30974 0.00278 -0.31506 C -0.00416 -0.46495 -0.00503 0.01249 0.00382 -0.11751 C -0.00225 -0.14157 0.00139 -0.15452 0.00139 -0.18806 E">
                                      <p:cBhvr>
                                        <p:cTn id="1338" dur="3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325440" y="5315040"/>
            <a:ext cx="8578800" cy="1209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           B            C         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816200" y="1444680"/>
            <a:ext cx="885600" cy="445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519360" y="1424160"/>
            <a:ext cx="885960" cy="449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207040" y="1449360"/>
            <a:ext cx="885960" cy="444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48640" y="1419120"/>
            <a:ext cx="885600" cy="445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60360" y="-353880"/>
            <a:ext cx="186084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16280" y="-365040"/>
            <a:ext cx="186084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96120" y="-588960"/>
            <a:ext cx="1860480" cy="6477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973240" y="-546120"/>
            <a:ext cx="1860840" cy="6477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9800" y="406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udience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65040" y="7047000"/>
            <a:ext cx="236520" cy="35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0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7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raph.wav"/>
                                        </p:tgtEl>
                                      </p:cMediaNode>
                                    </p:audio>
                                    <p:animMotion origin="layout" path="M -1.66667E-006 4.33727E-006 C 0.00573 -0.07495 -0.00729 -0.15753 0.00712 -0.23202 C 0.00747 -0.23873 0.00764 -0.24567 0.00816 -0.25237 C 0.00851 -0.25608 0.00938 -0.26718 0.00938 -0.26348 C 0.00938 -0.23664 0.00591 -0.21004 0.00591 -0.18344 C 0.00591 -0.18182 0.00677 -0.18668 0.00712 -0.1883 C 0.01025 -0.22554 0.00643 -0.17026 0.01059 -0.1536 C 0.0408 -0.16771 0.01355 -0.24844 0.0165 -0.2917 C 0.01615 -0.3183 0.01667 -0.3449 0.01528 -0.3715 C 0.01511 -0.37474 0.0132 -0.36549 0.01285 -0.36225 C 0.01129 -0.35022 0.01198 -0.35693 0.01059 -0.3419 C 0.00973 -0.2998 0.00799 -0.25816 0.00469 -0.21629 C 0.00504 -0.16147 0.00504 -0.10664 0.00591 -0.05182 C 0.00591 -0.04974 0.00712 -0.05598 0.00712 -0.05806 C 0.00712 -0.08513 0.00695 -0.11243 0.00591 -0.13949 C 0.00573 -0.14504 0.0033 -0.1499 0.00226 -0.15522 C 0.00052 -0.21768 0.00122 -0.27898 0.00122 -0.3419 E">
                                      <p:cBhvr>
                                        <p:cTn id="1348" dur="3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58316E-006 C -0.00052 -0.01758 -0.00278 -0.06662 5E-006 -0.08305 C 0.00069 -0.08675 0.00469 -0.07379 0.00469 -0.07379 C 0.00504 -0.06292 0.00539 -0.05182 0.00591 -0.04095 C 0.00626 -0.0347 0.00331 -0.02568 0.00713 -0.02198 C 0.01042 -0.01897 0.00869 -0.03239 0.00938 -0.03771 C 0.00834 -0.04419 0.00643 -0.065 0.01181 -0.04395 C 0.01216 -0.03979 0.01251 -0.03563 0.01303 -0.03146 C 0.0132 -0.02984 0.0139 -0.02522 0.01407 -0.02684 C 0.01876 -0.05668 0.01181 -0.03678 0.01772 -0.05182 C 0.02084 -0.04326 0.0198 -0.03748 0.02588 -0.04557 C 0.02952 -0.05968 0.02813 -0.05668 0.03056 -0.04557 C 0.03022 -0.04303 0.02952 -0.03493 0.02952 -0.03771 C 0.02952 -0.06385 0.03056 -0.08999 0.03056 -0.11613 C 0.03056 -0.13764 0.03317 -0.16401 0.02362 -0.18344 C 0.0139 -0.2459 0.01824 -0.21536 0.02362 -0.36225 C 0.02379 -0.36595 0.02692 -0.35601 0.02831 -0.35277 C 0.03074 -0.34698 0.03247 -0.33866 0.03421 -0.33241 C 0.0356 -0.26718 0.03629 -0.26649 0.03525 -0.18668 C 0.03369 -0.2038 0.0356 -0.22091 0.03647 -0.23826 C 0.0356 -0.25931 0.03647 -0.27875 0.03647 -0.29956 E">
                                      <p:cBhvr>
                                        <p:cTn id="1350" dur="3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0.00024 C 0.00173 -0.01503 0.00208 -0.02313 0.00711 -0.03585 C 0.00937 -0.05366 0.00642 -0.08558 0.00833 -0.09669 C 0.00972 -0.10478 0.01111 -0.08096 0.01302 -0.07332 C 0.01388 -0.07009 0.01527 -0.06708 0.01649 -0.06384 C 0.01805 -0.0532 0.01788 -0.03978 0.02239 -0.03099 C 0.02847 -0.04256 0.02083 -0.0296 0.01996 -0.02637 C 0.01475 -0.03701 0.01597 -0.05297 0.01423 -0.06546 C 0.01093 -0.05274 0.01041 -0.00393 0.01527 -0.02637 C 0.01493 -0.03099 0.01545 -0.03608 0.01423 -0.04048 C 0.01336 -0.04418 0.00937 -0.04973 0.00937 -0.04973 C 0.00902 -0.05158 0.00868 -0.05297 0.00833 -0.05482 C 0.00833 -0.05505 0.00833 -0.05644 0.00833 -0.05598 C 0.00868 -0.05366 0.00902 -0.05065 0.00937 -0.04834 C 0.00972 -0.04557 0.01024 -0.04325 0.01058 -0.04048 C 0.01093 -0.03146 0.0118 -0.0229 0.0118 -0.01364 C 0.0118 -0.00601 0.01111 -0.02937 0.01058 -0.03724 C 0.00972 -0.04742 0.00659 -0.05921 0.00364 -0.0687 C 0.00173 -0.07494 -0.00122 -0.08767 -0.00122 -0.08767 C -0.00556 -0.13185 -0.00244 -0.17603 -0.00122 -0.22091 C -0.00157 -0.26717 -0.00122 -0.31367 -0.00226 -0.36016 C -0.00226 -0.3634 -0.00469 -0.36965 -0.00469 -0.36965 C -0.00435 -0.35438 -0.00348 -0.33934 -0.00348 -0.32408 C -0.00348 -0.27018 -0.00365 -0.10895 -0.00469 -0.16261 C -0.00608 -0.23733 -0.00469 -0.31205 -0.00469 -0.38676 E">
                                      <p:cBhvr>
                                        <p:cTn id="1352" dur="3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2.45431E-006 C 0.0007 -0.1108 -0.04253 -0.2415 0.00521 -0.33218 C 0.00747 -0.34559 0.00625 -0.33171 0.00382 -0.34328 C 0.00313 -0.34744 0.00348 -0.35161 0.00278 -0.35577 C 0.00226 -0.35901 0.00104 -0.36202 0.00018 -0.36526 C -0.00017 -0.36687 0.00139 -0.3604 0.00139 -0.3604 C 0.00191 -0.35161 0.00104 -0.34235 0.00278 -0.3338 C 0.00313 -0.33148 0.00452 -0.33796 0.00521 -0.34004 C 0.00573 -0.34166 0.00573 -0.34328 0.00625 -0.3449 C 0.00851 -0.3523 0.01129 -0.35762 0.01337 -0.36526 C 0.01372 -0.36687 0.01233 -0.36202 0.01216 -0.3604 C 0.01146 -0.35762 0.0099 -0.35115 0.0099 -0.35115 C 0.00903 -0.35276 0.00886 -0.35647 0.00747 -0.35577 C 0.00382 -0.35415 0.00104 -0.34259 -0.00069 -0.33865 C -0.00277 -0.34582 -0.00017 -0.37451 -0.00451 -0.35901 C -0.00416 -0.33703 -0.00451 -0.31506 -0.00312 -0.29308 C -0.00295 -0.29123 -0.00156 -0.29609 -0.00069 -0.29771 C 0.00104 -0.3028 0.00191 -0.30974 0.00278 -0.31506 C -0.00416 -0.46495 -0.00503 0.01249 0.00382 -0.11751 C -0.00225 -0.14157 0.00139 -0.15452 0.00139 -0.18806 E">
                                      <p:cBhvr>
                                        <p:cTn id="1354" dur="3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658880" y="1479600"/>
            <a:ext cx="885960" cy="449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25440" y="0"/>
            <a:ext cx="8578800" cy="6524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           B            C         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76520" y="1457280"/>
            <a:ext cx="885600" cy="445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519360" y="1424160"/>
            <a:ext cx="885960" cy="449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207040" y="1449360"/>
            <a:ext cx="885960" cy="444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848640" y="1419120"/>
            <a:ext cx="885600" cy="445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3200" y="4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udience Dr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24360" y="-25704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43440" y="-32220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359400" y="-309600"/>
            <a:ext cx="186084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00080" y="-34308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5040" y="7047000"/>
            <a:ext cx="236520" cy="35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0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500"/>
                            </p:stCondLst>
                            <p:childTnLst>
                              <p:par>
                                <p:cTn id="1363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raph.wav"/>
                                        </p:tgtEl>
                                      </p:cMediaNode>
                                    </p:audio>
                                    <p:animMotion origin="layout" path="M -1.66667E-006 4.33727E-006 C 0.00573 -0.07495 -0.00729 -0.15753 0.00712 -0.23202 C 0.00747 -0.23873 0.00764 -0.24567 0.00816 -0.25237 C 0.00851 -0.25608 0.00938 -0.26718 0.00938 -0.26348 C 0.00938 -0.23664 0.00591 -0.21004 0.00591 -0.18344 C 0.00591 -0.18182 0.00677 -0.18668 0.00712 -0.1883 C 0.01025 -0.22554 0.00643 -0.17026 0.01059 -0.1536 C 0.0408 -0.16771 0.01355 -0.24844 0.0165 -0.2917 C 0.01615 -0.3183 0.01667 -0.3449 0.01528 -0.3715 C 0.01511 -0.37474 0.0132 -0.36549 0.01285 -0.36225 C 0.01129 -0.35022 0.01198 -0.35693 0.01059 -0.3419 C 0.00973 -0.2998 0.00799 -0.25816 0.00469 -0.21629 C 0.00504 -0.16147 0.00504 -0.10664 0.00591 -0.05182 C 0.00591 -0.04974 0.00712 -0.05598 0.00712 -0.05806 C 0.00712 -0.08513 0.00695 -0.11243 0.00591 -0.13949 C 0.00573 -0.14504 0.0033 -0.1499 0.00226 -0.15522 C 0.00052 -0.21768 0.00122 -0.27898 0.00122 -0.3419 E">
                                      <p:cBhvr>
                                        <p:cTn id="1364" dur="3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5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33727E-006 C 0.00573 -0.07495 -0.00729 -0.15753 0.00712 -0.23202 C 0.00747 -0.23873 0.00764 -0.24567 0.00816 -0.25237 C 0.00851 -0.25608 0.00938 -0.26718 0.00938 -0.26348 C 0.00938 -0.23664 0.00591 -0.21004 0.00591 -0.18344 C 0.00591 -0.18182 0.00677 -0.18668 0.00712 -0.1883 C 0.01025 -0.22554 0.00643 -0.17026 0.01059 -0.1536 C 0.0408 -0.16771 0.01355 -0.24844 0.0165 -0.2917 C 0.01615 -0.3183 0.01667 -0.3449 0.01528 -0.3715 C 0.01511 -0.37474 0.0132 -0.36549 0.01285 -0.36225 C 0.01129 -0.35022 0.01198 -0.35693 0.01059 -0.3419 C 0.00973 -0.2998 0.00799 -0.25816 0.00469 -0.21629 C 0.00504 -0.16147 0.00504 -0.10664 0.00591 -0.05182 C 0.00591 -0.04974 0.00712 -0.05598 0.00712 -0.05806 C 0.00712 -0.08513 0.00695 -0.11243 0.00591 -0.13949 C 0.00573 -0.14504 0.0033 -0.1499 0.00226 -0.15522 C 0.00052 -0.21768 0.00122 -0.27898 0.00122 -0.3419 E">
                                      <p:cBhvr>
                                        <p:cTn id="1366" dur="3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33727E-006 C 0.00573 -0.07495 -0.00729 -0.15753 0.00712 -0.23202 C 0.00747 -0.23873 0.00764 -0.24567 0.00816 -0.25237 C 0.00851 -0.25608 0.00938 -0.26718 0.00938 -0.26348 C 0.00938 -0.23664 0.00591 -0.21004 0.00591 -0.18344 C 0.00591 -0.18182 0.00677 -0.18668 0.00712 -0.1883 C 0.01025 -0.22554 0.00643 -0.17026 0.01059 -0.1536 C 0.0408 -0.16771 0.01355 -0.24844 0.0165 -0.2917 C 0.01615 -0.3183 0.01667 -0.3449 0.01528 -0.3715 C 0.01511 -0.37474 0.0132 -0.36549 0.01285 -0.36225 C 0.01129 -0.35022 0.01198 -0.35693 0.01059 -0.3419 C 0.00973 -0.2998 0.00799 -0.25816 0.00469 -0.21629 C 0.00504 -0.16147 0.00504 -0.10664 0.00591 -0.05182 C 0.00591 -0.04974 0.00712 -0.05598 0.00712 -0.05806 C 0.00712 -0.08513 0.00695 -0.11243 0.00591 -0.13949 C 0.00573 -0.14504 0.0033 -0.1499 0.00226 -0.15522 C 0.00052 -0.21768 0.00122 -0.27898 0.00122 -0.3419 E">
                                      <p:cBhvr>
                                        <p:cTn id="1368" dur="3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33727E-006 C 0.00573 -0.07495 -0.00729 -0.15753 0.00712 -0.23202 C 0.00747 -0.23873 0.00764 -0.24567 0.00816 -0.25237 C 0.00851 -0.25608 0.00938 -0.26718 0.00938 -0.26348 C 0.00938 -0.23664 0.00591 -0.21004 0.00591 -0.18344 C 0.00591 -0.18182 0.00677 -0.18668 0.00712 -0.1883 C 0.01025 -0.22554 0.00643 -0.17026 0.01059 -0.1536 C 0.0408 -0.16771 0.01355 -0.24844 0.0165 -0.2917 C 0.01615 -0.3183 0.01667 -0.3449 0.01528 -0.3715 C 0.01511 -0.37474 0.0132 -0.36549 0.01285 -0.36225 C 0.01129 -0.35022 0.01198 -0.35693 0.01059 -0.3419 C 0.00973 -0.2998 0.00799 -0.25816 0.00469 -0.21629 C 0.00504 -0.16147 0.00504 -0.10664 0.00591 -0.05182 C 0.00591 -0.04974 0.00712 -0.05598 0.00712 -0.05806 C 0.00712 -0.08513 0.00695 -0.11243 0.00591 -0.13949 C 0.00573 -0.14504 0.0033 -0.1499 0.00226 -0.15522 C 0.00052 -0.21768 0.00122 -0.27898 0.00122 -0.3419 E">
                                      <p:cBhvr>
                                        <p:cTn id="1370" dur="3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 rot="1917600">
            <a:off x="-252360" y="3933720"/>
            <a:ext cx="5259240" cy="20890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ざんねんでし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You leave with n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9685440" y="429264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555" name="グループ化 68"/>
          <p:cNvGrpSpPr/>
          <p:nvPr/>
        </p:nvGrpSpPr>
        <p:grpSpPr>
          <a:xfrm>
            <a:off x="2411280" y="1315800"/>
            <a:ext cx="5023080" cy="4675320"/>
            <a:chOff x="2411280" y="1315800"/>
            <a:chExt cx="5023080" cy="4675320"/>
          </a:xfrm>
        </p:grpSpPr>
        <p:sp>
          <p:nvSpPr>
            <p:cNvPr id="556" name="直方体 70"/>
            <p:cNvSpPr/>
            <p:nvPr/>
          </p:nvSpPr>
          <p:spPr>
            <a:xfrm>
              <a:off x="3822840" y="4412520"/>
              <a:ext cx="1743120" cy="1506960"/>
            </a:xfrm>
            <a:prstGeom prst="cube">
              <a:avLst>
                <a:gd name="adj" fmla="val 25000"/>
              </a:avLst>
            </a:prstGeom>
            <a:solidFill>
              <a:srgbClr val="b9cde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 Black"/>
                  <a:ea typeface="MS PGothic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平行四辺形 89"/>
            <p:cNvSpPr/>
            <p:nvPr/>
          </p:nvSpPr>
          <p:spPr>
            <a:xfrm rot="1803000">
              <a:off x="2853720" y="4079880"/>
              <a:ext cx="1314360" cy="510840"/>
            </a:xfrm>
            <a:prstGeom prst="parallelogram">
              <a:avLst>
                <a:gd name="adj" fmla="val 27409"/>
              </a:avLst>
            </a:prstGeom>
            <a:solidFill>
              <a:srgbClr val="b9cde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8" name="Picture 2" descr="C:\Users\chiaki\AppData\Local\Microsoft\Windows\Temporary Internet Files\Content.IE5\7LYOBQHH\MCj04246960000[1].wmf"/>
            <p:cNvPicPr/>
            <p:nvPr/>
          </p:nvPicPr>
          <p:blipFill>
            <a:blip r:embed="rId2"/>
            <a:stretch/>
          </p:blipFill>
          <p:spPr>
            <a:xfrm flipH="1">
              <a:off x="3867120" y="3416760"/>
              <a:ext cx="2364480" cy="14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正方形/長方形 91"/>
            <p:cNvSpPr/>
            <p:nvPr/>
          </p:nvSpPr>
          <p:spPr>
            <a:xfrm>
              <a:off x="3820680" y="4777560"/>
              <a:ext cx="1314360" cy="1115640"/>
            </a:xfrm>
            <a:prstGeom prst="rect">
              <a:avLst/>
            </a:prstGeom>
            <a:solidFill>
              <a:srgbClr val="b9cde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0" name="Picture 4" descr="C:\Users\chiaki\AppData\Local\Microsoft\Windows\Temporary Internet Files\Content.IE5\T2UJ9D2H\MCj03302900000[1].wmf"/>
            <p:cNvPicPr/>
            <p:nvPr/>
          </p:nvPicPr>
          <p:blipFill>
            <a:blip r:embed="rId3"/>
            <a:stretch/>
          </p:blipFill>
          <p:spPr>
            <a:xfrm>
              <a:off x="3594240" y="5492160"/>
              <a:ext cx="990360" cy="4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9" descr="C:\Users\chiaki\AppData\Local\Microsoft\Windows\Temporary Internet Files\Content.IE5\8MUAYD5H\MCj00839400000[1].wmf"/>
            <p:cNvPicPr/>
            <p:nvPr/>
          </p:nvPicPr>
          <p:blipFill>
            <a:blip r:embed="rId4"/>
            <a:stretch/>
          </p:blipFill>
          <p:spPr>
            <a:xfrm rot="3281400">
              <a:off x="5578200" y="2269800"/>
              <a:ext cx="88776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10" descr="C:\Users\chiaki\AppData\Local\Microsoft\Windows\Temporary Internet Files\Content.IE5\SELXUC88\MCWB01299_0000[1].gif"/>
            <p:cNvPicPr/>
            <p:nvPr/>
          </p:nvPicPr>
          <p:blipFill>
            <a:blip r:embed="rId5"/>
            <a:stretch/>
          </p:blipFill>
          <p:spPr>
            <a:xfrm flipH="1">
              <a:off x="4504320" y="1341360"/>
              <a:ext cx="10735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13" descr="C:\Users\chiaki\AppData\Local\Microsoft\Windows\Temporary Internet Files\Content.IE5\7LYOBQHH\MCAN04196_0000[1].wmf"/>
            <p:cNvPicPr/>
            <p:nvPr/>
          </p:nvPicPr>
          <p:blipFill>
            <a:blip r:embed="rId6"/>
            <a:stretch/>
          </p:blipFill>
          <p:spPr>
            <a:xfrm flipH="1">
              <a:off x="5467680" y="5492160"/>
              <a:ext cx="69264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3" descr="C:\Users\chiaki\AppData\Local\Microsoft\Windows\Temporary Internet Files\Content.IE5\7LYOBQHH\MCAN04196_0000[1].wmf"/>
            <p:cNvPicPr/>
            <p:nvPr/>
          </p:nvPicPr>
          <p:blipFill>
            <a:blip r:embed="rId7"/>
            <a:stretch/>
          </p:blipFill>
          <p:spPr>
            <a:xfrm flipH="1">
              <a:off x="5934600" y="5669280"/>
              <a:ext cx="53388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13" descr="C:\Users\chiaki\AppData\Local\Microsoft\Windows\Temporary Internet Files\Content.IE5\7LYOBQHH\MCAN04196_0000[1].wmf"/>
            <p:cNvPicPr/>
            <p:nvPr/>
          </p:nvPicPr>
          <p:blipFill>
            <a:blip r:embed="rId8"/>
            <a:stretch/>
          </p:blipFill>
          <p:spPr>
            <a:xfrm flipH="1">
              <a:off x="6286680" y="5409000"/>
              <a:ext cx="69264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13" descr="C:\Users\chiaki\AppData\Local\Microsoft\Windows\Temporary Internet Files\Content.IE5\7LYOBQHH\MCAN04196_0000[1].wmf"/>
            <p:cNvPicPr/>
            <p:nvPr/>
          </p:nvPicPr>
          <p:blipFill>
            <a:blip r:embed="rId9"/>
            <a:stretch/>
          </p:blipFill>
          <p:spPr>
            <a:xfrm flipH="1">
              <a:off x="6741720" y="5160240"/>
              <a:ext cx="69264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15" descr="C:\Users\chiaki\AppData\Local\Microsoft\Windows\Temporary Internet Files\Content.IE5\T2UJ9D2H\MCj04198900000[1].wmf"/>
            <p:cNvPicPr/>
            <p:nvPr/>
          </p:nvPicPr>
          <p:blipFill>
            <a:blip r:embed="rId10"/>
            <a:stretch/>
          </p:blipFill>
          <p:spPr>
            <a:xfrm rot="4308600">
              <a:off x="4340520" y="2404440"/>
              <a:ext cx="38556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16" descr="C:\Users\chiaki\AppData\Local\Microsoft\Windows\Temporary Internet Files\Content.IE5\T2UJ9D2H\MCj03319220000[1].wmf"/>
            <p:cNvPicPr/>
            <p:nvPr/>
          </p:nvPicPr>
          <p:blipFill>
            <a:blip r:embed="rId11"/>
            <a:stretch/>
          </p:blipFill>
          <p:spPr>
            <a:xfrm rot="4627200">
              <a:off x="5843160" y="1350720"/>
              <a:ext cx="498960" cy="5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16" descr="C:\Users\chiaki\AppData\Local\Microsoft\Windows\Temporary Internet Files\Content.IE5\T2UJ9D2H\MCj03319220000[1].wmf"/>
            <p:cNvPicPr/>
            <p:nvPr/>
          </p:nvPicPr>
          <p:blipFill>
            <a:blip r:embed="rId12"/>
            <a:stretch/>
          </p:blipFill>
          <p:spPr>
            <a:xfrm rot="21393600">
              <a:off x="2793240" y="1692000"/>
              <a:ext cx="646200" cy="57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9" descr="C:\Users\chiaki\AppData\Local\Microsoft\Windows\Temporary Internet Files\Content.IE5\8MUAYD5H\MCj00839400000[1].wmf"/>
            <p:cNvPicPr/>
            <p:nvPr/>
          </p:nvPicPr>
          <p:blipFill>
            <a:blip r:embed="rId13"/>
            <a:stretch/>
          </p:blipFill>
          <p:spPr>
            <a:xfrm rot="19956000">
              <a:off x="3258360" y="2700720"/>
              <a:ext cx="756360" cy="79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10" descr="C:\Users\chiaki\AppData\Local\Microsoft\Windows\Temporary Internet Files\Content.IE5\SELXUC88\MCWB01299_0000[1].gif"/>
            <p:cNvPicPr/>
            <p:nvPr/>
          </p:nvPicPr>
          <p:blipFill>
            <a:blip r:embed="rId14"/>
            <a:stretch/>
          </p:blipFill>
          <p:spPr>
            <a:xfrm rot="14901000">
              <a:off x="2754360" y="3991680"/>
              <a:ext cx="762480" cy="83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15" descr="C:\Users\chiaki\AppData\Local\Microsoft\Windows\Temporary Internet Files\Content.IE5\T2UJ9D2H\MCj04198900000[1].wmf"/>
            <p:cNvPicPr/>
            <p:nvPr/>
          </p:nvPicPr>
          <p:blipFill>
            <a:blip r:embed="rId15"/>
            <a:stretch/>
          </p:blipFill>
          <p:spPr>
            <a:xfrm>
              <a:off x="2411280" y="2752560"/>
              <a:ext cx="422640" cy="331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0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6" dur="4491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Kristen ITC"/>
              </a:rPr>
              <a:t>You Leave with </a:t>
            </a:r>
            <a:r>
              <a:rPr b="0" lang="en-GB" sz="5400" spc="-1" strike="noStrike">
                <a:solidFill>
                  <a:srgbClr val="ffff00"/>
                </a:solidFill>
                <a:latin typeface="Kristen ITC"/>
                <a:ea typeface="MS PGothic"/>
              </a:rPr>
              <a:t>10</a:t>
            </a:r>
            <a:r>
              <a:rPr b="0" lang="ja-JP" sz="5400" spc="-1" strike="noStrike">
                <a:solidFill>
                  <a:srgbClr val="ffff00"/>
                </a:solidFill>
                <a:latin typeface="Kristen ITC"/>
                <a:ea typeface="MS PGothic"/>
              </a:rPr>
              <a:t>万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9540720" y="3357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新一万円日本銀行券（表）"/>
          <p:cNvPicPr/>
          <p:nvPr/>
        </p:nvPicPr>
        <p:blipFill>
          <a:blip r:embed="rId2"/>
          <a:stretch/>
        </p:blipFill>
        <p:spPr>
          <a:xfrm rot="21223800">
            <a:off x="2771640" y="5084280"/>
            <a:ext cx="2791080" cy="14605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新一万円日本銀行券（表）"/>
          <p:cNvPicPr/>
          <p:nvPr/>
        </p:nvPicPr>
        <p:blipFill>
          <a:blip r:embed="rId3"/>
          <a:stretch/>
        </p:blipFill>
        <p:spPr>
          <a:xfrm rot="19182000">
            <a:off x="250920" y="1773360"/>
            <a:ext cx="3386160" cy="17715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新一万円日本銀行券（表）"/>
          <p:cNvPicPr/>
          <p:nvPr/>
        </p:nvPicPr>
        <p:blipFill>
          <a:blip r:embed="rId4"/>
          <a:stretch/>
        </p:blipFill>
        <p:spPr>
          <a:xfrm rot="274800">
            <a:off x="5874840" y="4959000"/>
            <a:ext cx="3025800" cy="15843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新一万円日本銀行券（表）"/>
          <p:cNvPicPr/>
          <p:nvPr/>
        </p:nvPicPr>
        <p:blipFill>
          <a:blip r:embed="rId5"/>
          <a:stretch/>
        </p:blipFill>
        <p:spPr>
          <a:xfrm rot="20790600">
            <a:off x="3348000" y="1196640"/>
            <a:ext cx="2957400" cy="154764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新一万円日本銀行券（表）"/>
          <p:cNvPicPr/>
          <p:nvPr/>
        </p:nvPicPr>
        <p:blipFill>
          <a:blip r:embed="rId6"/>
          <a:stretch/>
        </p:blipFill>
        <p:spPr>
          <a:xfrm rot="4398000">
            <a:off x="523440" y="3948120"/>
            <a:ext cx="2782800" cy="14558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新一万円日本銀行券（表）"/>
          <p:cNvPicPr/>
          <p:nvPr/>
        </p:nvPicPr>
        <p:blipFill>
          <a:blip r:embed="rId7"/>
          <a:stretch/>
        </p:blipFill>
        <p:spPr>
          <a:xfrm rot="19344600">
            <a:off x="2484360" y="3499920"/>
            <a:ext cx="3373560" cy="176544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新一万円日本銀行券（表）"/>
          <p:cNvPicPr/>
          <p:nvPr/>
        </p:nvPicPr>
        <p:blipFill>
          <a:blip r:embed="rId8"/>
          <a:stretch/>
        </p:blipFill>
        <p:spPr>
          <a:xfrm rot="18786000">
            <a:off x="5259960" y="4037040"/>
            <a:ext cx="3460680" cy="18115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新一万円日本銀行券（表）"/>
          <p:cNvPicPr/>
          <p:nvPr/>
        </p:nvPicPr>
        <p:blipFill>
          <a:blip r:embed="rId9"/>
          <a:stretch/>
        </p:blipFill>
        <p:spPr>
          <a:xfrm rot="20790600">
            <a:off x="4572000" y="2923920"/>
            <a:ext cx="2957400" cy="1547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新一万円日本銀行券（表）"/>
          <p:cNvPicPr/>
          <p:nvPr/>
        </p:nvPicPr>
        <p:blipFill>
          <a:blip r:embed="rId10"/>
          <a:stretch/>
        </p:blipFill>
        <p:spPr>
          <a:xfrm>
            <a:off x="6012000" y="2205000"/>
            <a:ext cx="2782800" cy="145584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新一万円日本銀行券（表）"/>
          <p:cNvPicPr/>
          <p:nvPr/>
        </p:nvPicPr>
        <p:blipFill>
          <a:blip r:embed="rId11"/>
          <a:stretch/>
        </p:blipFill>
        <p:spPr>
          <a:xfrm rot="20790600">
            <a:off x="2556000" y="2636640"/>
            <a:ext cx="2957400" cy="15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0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2" dur="5398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Kristen ITC"/>
              </a:rPr>
              <a:t>You Leave with </a:t>
            </a:r>
            <a:r>
              <a:rPr b="0" lang="ja-JP" sz="4800" spc="-1" strike="noStrike">
                <a:solidFill>
                  <a:srgbClr val="ffff00"/>
                </a:solidFill>
                <a:latin typeface="Kristen ITC"/>
                <a:ea typeface="MS PGothic"/>
              </a:rPr>
              <a:t>３００万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グループ化 51"/>
          <p:cNvGrpSpPr/>
          <p:nvPr/>
        </p:nvGrpSpPr>
        <p:grpSpPr>
          <a:xfrm>
            <a:off x="2081520" y="876240"/>
            <a:ext cx="5254200" cy="5532480"/>
            <a:chOff x="2081520" y="876240"/>
            <a:chExt cx="5254200" cy="5532480"/>
          </a:xfrm>
        </p:grpSpPr>
        <p:sp>
          <p:nvSpPr>
            <p:cNvPr id="587" name="円/楕円 41"/>
            <p:cNvSpPr/>
            <p:nvPr/>
          </p:nvSpPr>
          <p:spPr>
            <a:xfrm>
              <a:off x="2509560" y="2122200"/>
              <a:ext cx="785520" cy="785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2700000"/>
            </a:gradFill>
            <a:ln w="93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9" descr="C:\Users\chiaki\AppData\Local\Microsoft\Windows\Temporary Internet Files\Content.IE5\T2UJ9D2H\MCj00790940000[1].wmf"/>
            <p:cNvPicPr/>
            <p:nvPr/>
          </p:nvPicPr>
          <p:blipFill>
            <a:blip r:embed="rId1"/>
            <a:stretch/>
          </p:blipFill>
          <p:spPr>
            <a:xfrm>
              <a:off x="5439240" y="3217680"/>
              <a:ext cx="1000080" cy="8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円/楕円 52"/>
            <p:cNvSpPr/>
            <p:nvPr/>
          </p:nvSpPr>
          <p:spPr>
            <a:xfrm rot="3217200">
              <a:off x="6016320" y="1249200"/>
              <a:ext cx="500040" cy="500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21084000"/>
            </a:gradFill>
            <a:ln w="93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円/楕円 53"/>
            <p:cNvSpPr/>
            <p:nvPr/>
          </p:nvSpPr>
          <p:spPr>
            <a:xfrm>
              <a:off x="3916080" y="1122120"/>
              <a:ext cx="500040" cy="500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2700000"/>
            </a:gradFill>
            <a:ln w="93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円/楕円 55"/>
            <p:cNvSpPr/>
            <p:nvPr/>
          </p:nvSpPr>
          <p:spPr>
            <a:xfrm rot="3217200">
              <a:off x="5338440" y="287964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21084000"/>
            </a:gradFill>
            <a:ln w="93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2" name="Picture 12" descr="C:\Users\chiaki\AppData\Local\Microsoft\Windows\Temporary Internet Files\Content.IE5\7LYOBQHH\MCj04183500000[1].wmf"/>
            <p:cNvPicPr/>
            <p:nvPr/>
          </p:nvPicPr>
          <p:blipFill>
            <a:blip r:embed="rId2"/>
            <a:stretch/>
          </p:blipFill>
          <p:spPr>
            <a:xfrm rot="1115400">
              <a:off x="4478040" y="1118520"/>
              <a:ext cx="820440" cy="184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3" descr="C:\Users\chiaki\AppData\Local\Microsoft\Windows\Temporary Internet Files\Content.IE5\8MUAYD5H\MCj04124900000[1].wmf"/>
            <p:cNvPicPr/>
            <p:nvPr/>
          </p:nvPicPr>
          <p:blipFill>
            <a:blip r:embed="rId3"/>
            <a:stretch/>
          </p:blipFill>
          <p:spPr>
            <a:xfrm rot="4687200">
              <a:off x="3157560" y="1249920"/>
              <a:ext cx="1056600" cy="11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円/楕円 59"/>
            <p:cNvSpPr/>
            <p:nvPr/>
          </p:nvSpPr>
          <p:spPr>
            <a:xfrm>
              <a:off x="5653080" y="2122200"/>
              <a:ext cx="285480" cy="2854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2700000"/>
            </a:gradFill>
            <a:ln w="93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星 5 61"/>
            <p:cNvSpPr/>
            <p:nvPr/>
          </p:nvSpPr>
          <p:spPr>
            <a:xfrm>
              <a:off x="3366720" y="2622240"/>
              <a:ext cx="214200" cy="214200"/>
            </a:xfrm>
            <a:prstGeom prst="pie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星 5 62"/>
            <p:cNvSpPr/>
            <p:nvPr/>
          </p:nvSpPr>
          <p:spPr>
            <a:xfrm>
              <a:off x="5581440" y="2622240"/>
              <a:ext cx="214200" cy="214200"/>
            </a:xfrm>
            <a:prstGeom prst="pie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星 5 63"/>
            <p:cNvSpPr/>
            <p:nvPr/>
          </p:nvSpPr>
          <p:spPr>
            <a:xfrm>
              <a:off x="3652560" y="3051000"/>
              <a:ext cx="214200" cy="214200"/>
            </a:xfrm>
            <a:prstGeom prst="pie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星 5 64"/>
            <p:cNvSpPr/>
            <p:nvPr/>
          </p:nvSpPr>
          <p:spPr>
            <a:xfrm>
              <a:off x="5559480" y="1577880"/>
              <a:ext cx="214200" cy="214200"/>
            </a:xfrm>
            <a:prstGeom prst="pie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ハート 65"/>
            <p:cNvSpPr/>
            <p:nvPr/>
          </p:nvSpPr>
          <p:spPr>
            <a:xfrm rot="2157600">
              <a:off x="6337080" y="2122200"/>
              <a:ext cx="244440" cy="2919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ハート 66"/>
            <p:cNvSpPr/>
            <p:nvPr/>
          </p:nvSpPr>
          <p:spPr>
            <a:xfrm rot="18357600">
              <a:off x="2792520" y="1303200"/>
              <a:ext cx="244440" cy="2934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ハート 67"/>
            <p:cNvSpPr/>
            <p:nvPr/>
          </p:nvSpPr>
          <p:spPr>
            <a:xfrm rot="1134000">
              <a:off x="5336640" y="907560"/>
              <a:ext cx="244440" cy="2934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直方体 35"/>
            <p:cNvSpPr/>
            <p:nvPr/>
          </p:nvSpPr>
          <p:spPr>
            <a:xfrm>
              <a:off x="3885840" y="5113440"/>
              <a:ext cx="1368360" cy="1295280"/>
            </a:xfrm>
            <a:prstGeom prst="cube">
              <a:avLst>
                <a:gd name="adj" fmla="val 25000"/>
              </a:avLst>
            </a:prstGeom>
            <a:solidFill>
              <a:srgbClr val="b9cde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 Black"/>
                  <a:ea typeface="MS PGothic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平行四辺形 36"/>
            <p:cNvSpPr/>
            <p:nvPr/>
          </p:nvSpPr>
          <p:spPr>
            <a:xfrm rot="1803000">
              <a:off x="3134520" y="4809960"/>
              <a:ext cx="1031760" cy="439560"/>
            </a:xfrm>
            <a:prstGeom prst="parallelogram">
              <a:avLst>
                <a:gd name="adj" fmla="val 25005"/>
              </a:avLst>
            </a:prstGeom>
            <a:solidFill>
              <a:srgbClr val="b9cde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4" name="Picture 4" descr="C:\Users\chiaki\AppData\Local\Microsoft\Windows\Temporary Internet Files\Content.IE5\T2UJ9D2H\MCj04169380000[1].wmf"/>
            <p:cNvPicPr/>
            <p:nvPr/>
          </p:nvPicPr>
          <p:blipFill>
            <a:blip r:embed="rId4"/>
            <a:stretch/>
          </p:blipFill>
          <p:spPr>
            <a:xfrm flipH="1" rot="20821200">
              <a:off x="3703680" y="3929400"/>
              <a:ext cx="1281960" cy="16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正方形/長方形 39"/>
            <p:cNvSpPr/>
            <p:nvPr/>
          </p:nvSpPr>
          <p:spPr>
            <a:xfrm>
              <a:off x="3900240" y="5438880"/>
              <a:ext cx="1019160" cy="961920"/>
            </a:xfrm>
            <a:prstGeom prst="rect">
              <a:avLst/>
            </a:prstGeom>
            <a:solidFill>
              <a:srgbClr val="b9cde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6" name="Picture 57" descr="C:\Users\tomokoo\Pictures\Microsoft クリップ オーガナイザ\j0418048.wmf"/>
            <p:cNvPicPr/>
            <p:nvPr/>
          </p:nvPicPr>
          <p:blipFill>
            <a:blip r:embed="rId5"/>
            <a:stretch/>
          </p:blipFill>
          <p:spPr>
            <a:xfrm>
              <a:off x="4724640" y="3908520"/>
              <a:ext cx="135720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59" descr="C:\Users\tomokoo\Pictures\Microsoft クリップ オーガナイザ\j0418052.wmf"/>
            <p:cNvPicPr/>
            <p:nvPr/>
          </p:nvPicPr>
          <p:blipFill>
            <a:blip r:embed="rId6"/>
            <a:stretch/>
          </p:blipFill>
          <p:spPr>
            <a:xfrm rot="19968600">
              <a:off x="2268000" y="3258000"/>
              <a:ext cx="1506240" cy="11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60" descr="C:\Users\tomokoo\Pictures\Microsoft クリップ オーガナイザ\j0418042.wmf"/>
            <p:cNvPicPr/>
            <p:nvPr/>
          </p:nvPicPr>
          <p:blipFill>
            <a:blip r:embed="rId7"/>
            <a:stretch/>
          </p:blipFill>
          <p:spPr>
            <a:xfrm>
              <a:off x="6010560" y="2479680"/>
              <a:ext cx="132516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61" descr="C:\Users\tomokoo\Pictures\Microsoft クリップ オーガナイザ\j0418050.wmf"/>
            <p:cNvPicPr/>
            <p:nvPr/>
          </p:nvPicPr>
          <p:blipFill>
            <a:blip r:embed="rId8"/>
            <a:stretch/>
          </p:blipFill>
          <p:spPr>
            <a:xfrm>
              <a:off x="3990960" y="2693880"/>
              <a:ext cx="1324080" cy="103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0" name="" descr=""/>
          <p:cNvPicPr/>
          <p:nvPr/>
        </p:nvPicPr>
        <p:blipFill>
          <a:blip r:embed="rId9"/>
          <a:stretch/>
        </p:blipFill>
        <p:spPr>
          <a:xfrm>
            <a:off x="9468000" y="306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0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8" dur="8032" fill="hold"/>
                                        <p:tgtEl>
                                          <p:spTgt spid="6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ゲームセン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ビ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デパ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プ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-828720" y="620640"/>
            <a:ext cx="389160" cy="389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549360"/>
            <a:ext cx="51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　　　　　日本語で何で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16720" y="4005360"/>
            <a:ext cx="262728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3500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Kristen ITC"/>
                <a:ea typeface="MS PGothic"/>
              </a:rPr>
              <a:t>game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1"/>
          <a:stretch/>
        </p:blipFill>
        <p:spPr>
          <a:xfrm>
            <a:off x="611280" y="1916280"/>
            <a:ext cx="2398680" cy="2225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3564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28003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1"/>
                </p:tgtEl>
              </p:cMediaNode>
            </p:audio>
            <p:seq>
              <p:cTn id="531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0" dur="261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2703600" cy="329724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Kristen ITC"/>
              </a:rPr>
              <a:t>Won 1</a:t>
            </a:r>
            <a:r>
              <a:rPr b="0" lang="ja-JP" sz="9600" spc="-1" strike="noStrike">
                <a:solidFill>
                  <a:srgbClr val="ffff00"/>
                </a:solidFill>
                <a:latin typeface="Kristen ITC"/>
                <a:ea typeface="MS PGothic"/>
              </a:rPr>
              <a:t>億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684360" y="4724280"/>
            <a:ext cx="915840" cy="17542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3"/>
          <a:stretch/>
        </p:blipFill>
        <p:spPr>
          <a:xfrm>
            <a:off x="7451640" y="5013360"/>
            <a:ext cx="1446120" cy="16254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4"/>
          <a:stretch/>
        </p:blipFill>
        <p:spPr>
          <a:xfrm>
            <a:off x="9468000" y="429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5"/>
          <a:stretch/>
        </p:blipFill>
        <p:spPr>
          <a:xfrm>
            <a:off x="9756720" y="515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6"/>
          <a:stretch/>
        </p:blipFill>
        <p:spPr>
          <a:xfrm>
            <a:off x="4356000" y="1916280"/>
            <a:ext cx="2975040" cy="365760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1763640" y="4437000"/>
            <a:ext cx="3889440" cy="19162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おめでと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0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250"/>
                            </p:stCondLst>
                            <p:childTnLst>
                              <p:par>
                                <p:cTn id="14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1" dur="5217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6467"/>
                            </p:stCondLst>
                            <p:childTnLst>
                              <p:par>
                                <p:cTn id="14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7" dur="5217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1684"/>
                            </p:stCondLst>
                            <p:childTnLst>
                              <p:par>
                                <p:cTn id="1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6" dur="5942" fill="hold"/>
                                        <p:tgtEl>
                                          <p:spTgt spid="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デパ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ポス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2" action="ppaction://hlinksldjump"/>
          </p:cNvPr>
          <p:cNvSpPr/>
          <p:nvPr/>
        </p:nvSpPr>
        <p:spPr>
          <a:xfrm>
            <a:off x="826920" y="6165720"/>
            <a:ext cx="33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ホテ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3" action="ppaction://hlinksldjump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スーパ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-900000" y="26028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549360"/>
            <a:ext cx="44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日本語で何で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16720" y="3716280"/>
            <a:ext cx="2627280" cy="319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395280" y="1916280"/>
            <a:ext cx="2376360" cy="20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411280" y="3573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Kristen ITC"/>
                <a:ea typeface="MS PGothic"/>
              </a:rPr>
              <a:t>post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3564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6" dur="28003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2612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イ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レンタカ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タクシ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-612720" y="40464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5493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　　　日本語で何で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43640" y="3429000"/>
            <a:ext cx="270036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826920" y="1773360"/>
            <a:ext cx="2570400" cy="2160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419640" y="3429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Kristen ITC"/>
                <a:ea typeface="MS PGothic"/>
              </a:rPr>
              <a:t>rental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3564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28003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2612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デパート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プール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スーパ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スーパー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8"/>
          <a:stretch/>
        </p:blipFill>
        <p:spPr>
          <a:xfrm>
            <a:off x="-612720" y="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549360"/>
            <a:ext cx="597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　　　　　　　　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40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行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I am going to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a supermarke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43640" y="3141720"/>
            <a:ext cx="270036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9"/>
          <a:stretch/>
        </p:blipFill>
        <p:spPr>
          <a:xfrm>
            <a:off x="5003640" y="2997360"/>
            <a:ext cx="957600" cy="927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3564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7" dur="28003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659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4" dur="2612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ゲームセンタ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レストラン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レストラン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レンタカー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-684360" y="0"/>
            <a:ext cx="389160" cy="388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549360"/>
            <a:ext cx="590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　　　　　　　　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40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行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I am going to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a restauran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43640" y="2781360"/>
            <a:ext cx="270036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3851280" y="2997360"/>
            <a:ext cx="2160720" cy="9507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09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188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9272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0" dur="28003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7" dur="2612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グラウンド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レストラン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グウランド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タクシー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-757080" y="18900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08000" y="2205000"/>
            <a:ext cx="1800360" cy="863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516720" y="2492280"/>
            <a:ext cx="2627280" cy="319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549360"/>
            <a:ext cx="5976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7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 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40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行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am going to the gr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9"/>
          <a:stretch/>
        </p:blipFill>
        <p:spPr>
          <a:xfrm>
            <a:off x="4427640" y="2637000"/>
            <a:ext cx="1966680" cy="1492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35640" y="6021360"/>
            <a:ext cx="5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3" dur="28003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2" dur="2612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クイ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2" action="ppaction://hlinksldjump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ス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3" action="ppaction://hlinksldjump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レン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イク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-541440" y="0"/>
            <a:ext cx="389160" cy="388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16720" y="2205000"/>
            <a:ext cx="262728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333360"/>
            <a:ext cx="5976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 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40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行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am going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there by motor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9"/>
          <a:stretch/>
        </p:blipFill>
        <p:spPr>
          <a:xfrm>
            <a:off x="4500720" y="2708280"/>
            <a:ext cx="1922400" cy="1494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08720" y="5950080"/>
            <a:ext cx="5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28003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1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792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9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7" dur="261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2:23:57Z</dcterms:created>
  <dc:creator> </dc:creator>
  <dc:description/>
  <dc:language>en-US</dc:language>
  <cp:lastModifiedBy>Ministry of Education</cp:lastModifiedBy>
  <dcterms:modified xsi:type="dcterms:W3CDTF">2009-08-13T23:03:16Z</dcterms:modified>
  <cp:revision>34</cp:revision>
  <dc:subject/>
  <dc:title>Slide 1</dc:title>
</cp:coreProperties>
</file>